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DC22-DCB3-4EFD-9D64-A9C894983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DC45-083C-440F-8E35-F9D679090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A282-334C-4385-A016-0928246A8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EF4C-7841-47C7-B1FF-25D8154A5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B938-A02B-45F5-9C10-8BE1FA7C3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DC2E-1E01-46F0-B517-B27A5F7DE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6A7-7ECD-4A23-BC7A-6468C381CC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8E4-35AD-46B7-B65A-4100D30B2D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DF2-7929-4910-B1F9-63C6D9E78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671D-244B-4365-90D9-249C76AB9D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FC5-35B4-4D05-93EC-E8733F187A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01D-6FA4-4FA8-B16F-2AD36157C8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172-BD62-467A-8B3E-5E5854ABD9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F62-1110-4D10-AD98-2B3E35A68F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76B-D11E-4550-8A62-97E959311E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597-5C6E-48E2-826A-86E8444C88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203-27C4-4A34-9202-7F2740489C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7BE-A383-4862-BE63-699DF89D84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D4B-0A2F-4407-83C6-7E88511B723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2C334-7080-440E-9B74-CB5CA1442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70F3-09D1-4CBF-925B-13CD428C01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05B19-968F-43EB-AF7D-18BF518834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BDE3C-FFD0-4C1D-A17C-529BE1B616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F3B01-3206-42EF-8689-1A9B387774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07380-C966-4ED6-AEC0-CF72CD91B1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B4CD-7B92-4EFE-9AF5-0AC3FE83EA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B8293-873C-4652-81E2-21AF73AB76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19787-C92E-4796-AE9A-9F061482271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75723-C8B5-451A-87D7-0D41EC131A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F8C45-10ED-4222-A831-2C1CB0C07E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D7C6-C44E-4535-BE23-CC624C1FD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DD33-616A-4B62-A2A2-29D8C8DD55D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0E33-7A5D-47B7-94F6-2E6B1E7C20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3DA4-4C1B-4780-BC03-7A7E36665A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DF62-E971-445B-AB38-87A107BCA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A472-FFC3-450D-80A9-7520FF5DC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570-8AE0-404F-8677-E8EDCB38CC6D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DC9-71AE-42F6-9974-55C35A365D2C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58F5-FA4F-427F-BB3B-25F9F3615368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2FD5-9A8B-4F82-AE5C-3BA89BA015F6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87640" y="1989000"/>
            <a:ext cx="4103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7 febr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235400" y="2852640"/>
            <a:ext cx="4908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TÉCNICA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NOVA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331D-7D1A-428A-96B6-24FAA02493AC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 Título"/>
          <p:cNvSpPr/>
          <p:nvPr/>
        </p:nvSpPr>
        <p:spPr>
          <a:xfrm>
            <a:off x="873000" y="404640"/>
            <a:ext cx="7444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. Esquema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6 Diagrama" descr=""/>
          <p:cNvPicPr/>
          <p:nvPr/>
        </p:nvPicPr>
        <p:blipFill>
          <a:blip r:embed="rId1"/>
          <a:stretch/>
        </p:blipFill>
        <p:spPr>
          <a:xfrm>
            <a:off x="-55440" y="1639800"/>
            <a:ext cx="99122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br>
              <a:rPr sz="44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 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21" name="6 CuadroTexto"/>
          <p:cNvSpPr/>
          <p:nvPr/>
        </p:nvSpPr>
        <p:spPr>
          <a:xfrm>
            <a:off x="3544920" y="1546200"/>
            <a:ext cx="5491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. Públic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7 Diagrama" descr=""/>
          <p:cNvPicPr/>
          <p:nvPr/>
        </p:nvPicPr>
        <p:blipFill>
          <a:blip r:embed="rId2"/>
          <a:stretch/>
        </p:blipFill>
        <p:spPr>
          <a:xfrm>
            <a:off x="5479920" y="456552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Priorizació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24000" y="167796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D4F-7231-4A45-8485-8E1FC3F32C68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24000" y="189000"/>
            <a:ext cx="82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Res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1297-2D43-44EC-B076-1D349338727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4000" y="189000"/>
            <a:ext cx="820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SERGAS como usuario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81040" y="1406520"/>
            <a:ext cx="829944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stema de identifi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ol de aguas de b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timización de recursos en onc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stión integral de comités méd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s con tumores diges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lud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betes gest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C32B-9CD3-4305-8EAE-E30EE360D780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95280" y="534960"/>
            <a:ext cx="518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mpromiso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18FF-B69D-4B5E-9DBE-6171A78390C8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44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B06D-85A0-4A6E-8055-7F23962A9564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 Título"/>
          <p:cNvSpPr/>
          <p:nvPr/>
        </p:nvSpPr>
        <p:spPr>
          <a:xfrm>
            <a:off x="324000" y="52560"/>
            <a:ext cx="55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303120" y="125568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467320" y="684360"/>
            <a:ext cx="2200320" cy="1160280"/>
          </a:xfrm>
          <a:prstGeom prst="rect">
            <a:avLst/>
          </a:prstGeom>
          <a:ln w="0">
            <a:noFill/>
          </a:ln>
        </p:spPr>
      </p:pic>
      <p:sp>
        <p:nvSpPr>
          <p:cNvPr id="350" name="1 Cerrar llave"/>
          <p:cNvSpPr/>
          <p:nvPr/>
        </p:nvSpPr>
        <p:spPr>
          <a:xfrm>
            <a:off x="4240080" y="1225440"/>
            <a:ext cx="328680" cy="1368360"/>
          </a:xfrm>
          <a:custGeom>
            <a:avLst/>
            <a:gdLst>
              <a:gd name="textAreaLeft" fmla="*/ 0 w 328680"/>
              <a:gd name="textAreaRight" fmla="*/ 118800 w 32868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8 Cerrar llave"/>
          <p:cNvSpPr/>
          <p:nvPr/>
        </p:nvSpPr>
        <p:spPr>
          <a:xfrm>
            <a:off x="4673520" y="4557600"/>
            <a:ext cx="363600" cy="85572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855720"/>
              <a:gd name="textAreaBottom" fmla="*/ 8463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0 CuadroTexto"/>
          <p:cNvSpPr/>
          <p:nvPr/>
        </p:nvSpPr>
        <p:spPr>
          <a:xfrm>
            <a:off x="5119560" y="184932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3 CuadroTexto"/>
          <p:cNvSpPr/>
          <p:nvPr/>
        </p:nvSpPr>
        <p:spPr>
          <a:xfrm>
            <a:off x="5119560" y="277164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4 CuadroTexto"/>
          <p:cNvSpPr/>
          <p:nvPr/>
        </p:nvSpPr>
        <p:spPr>
          <a:xfrm>
            <a:off x="5119560" y="36957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5 CuadroTexto"/>
          <p:cNvSpPr/>
          <p:nvPr/>
        </p:nvSpPr>
        <p:spPr>
          <a:xfrm>
            <a:off x="5119560" y="41720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16 CuadroTexto"/>
          <p:cNvSpPr/>
          <p:nvPr/>
        </p:nvSpPr>
        <p:spPr>
          <a:xfrm>
            <a:off x="5119560" y="480060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7 Imagen" descr="Imagen relacionada"/>
          <p:cNvPicPr/>
          <p:nvPr/>
        </p:nvPicPr>
        <p:blipFill>
          <a:blip r:embed="rId2"/>
          <a:stretch/>
        </p:blipFill>
        <p:spPr>
          <a:xfrm>
            <a:off x="4075200" y="127800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9" name="18 Imagen" descr="Imagen relacionada"/>
          <p:cNvPicPr/>
          <p:nvPr/>
        </p:nvPicPr>
        <p:blipFill>
          <a:blip r:embed="rId3"/>
          <a:stretch/>
        </p:blipFill>
        <p:spPr>
          <a:xfrm>
            <a:off x="3645000" y="1731960"/>
            <a:ext cx="231840" cy="22392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4"/>
          <a:stretch/>
        </p:blipFill>
        <p:spPr>
          <a:xfrm>
            <a:off x="4586400" y="29559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20 Imagen" descr="Imagen relacionada"/>
          <p:cNvPicPr/>
          <p:nvPr/>
        </p:nvPicPr>
        <p:blipFill>
          <a:blip r:embed="rId5"/>
          <a:stretch/>
        </p:blipFill>
        <p:spPr>
          <a:xfrm>
            <a:off x="3876840" y="2206800"/>
            <a:ext cx="231480" cy="223560"/>
          </a:xfrm>
          <a:prstGeom prst="rect">
            <a:avLst/>
          </a:prstGeom>
          <a:ln w="0">
            <a:noFill/>
          </a:ln>
        </p:spPr>
      </p:pic>
      <p:sp>
        <p:nvSpPr>
          <p:cNvPr id="362" name="17 CuadroTexto"/>
          <p:cNvSpPr/>
          <p:nvPr/>
        </p:nvSpPr>
        <p:spPr>
          <a:xfrm>
            <a:off x="5119560" y="54752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19 Imagen" descr="Imagen relacionada"/>
          <p:cNvPicPr/>
          <p:nvPr/>
        </p:nvPicPr>
        <p:blipFill>
          <a:blip r:embed="rId6"/>
          <a:stretch/>
        </p:blipFill>
        <p:spPr>
          <a:xfrm>
            <a:off x="3959280" y="3687840"/>
            <a:ext cx="230040" cy="225360"/>
          </a:xfrm>
          <a:prstGeom prst="rect">
            <a:avLst/>
          </a:prstGeom>
          <a:ln w="0">
            <a:noFill/>
          </a:ln>
        </p:spPr>
      </p:pic>
      <p:pic>
        <p:nvPicPr>
          <p:cNvPr id="364" name="19 Imagen" descr="Imagen relacionada"/>
          <p:cNvPicPr/>
          <p:nvPr/>
        </p:nvPicPr>
        <p:blipFill>
          <a:blip r:embed="rId7"/>
          <a:stretch/>
        </p:blipFill>
        <p:spPr>
          <a:xfrm>
            <a:off x="4192560" y="420372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5" name="19 Imagen" descr="Imagen relacionada"/>
          <p:cNvPicPr/>
          <p:nvPr/>
        </p:nvPicPr>
        <p:blipFill>
          <a:blip r:embed="rId8"/>
          <a:stretch/>
        </p:blipFill>
        <p:spPr>
          <a:xfrm>
            <a:off x="4643280" y="4637160"/>
            <a:ext cx="230400" cy="223920"/>
          </a:xfrm>
          <a:prstGeom prst="rect">
            <a:avLst/>
          </a:prstGeom>
          <a:ln w="0">
            <a:noFill/>
          </a:ln>
        </p:spPr>
      </p:pic>
      <p:pic>
        <p:nvPicPr>
          <p:cNvPr id="366" name="19 Imagen" descr="Imagen relacionada"/>
          <p:cNvPicPr/>
          <p:nvPr/>
        </p:nvPicPr>
        <p:blipFill>
          <a:blip r:embed="rId9"/>
          <a:stretch/>
        </p:blipFill>
        <p:spPr>
          <a:xfrm>
            <a:off x="4338720" y="515952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67" name="19 Imagen" descr="Imagen relacionada"/>
          <p:cNvPicPr/>
          <p:nvPr/>
        </p:nvPicPr>
        <p:blipFill>
          <a:blip r:embed="rId10"/>
          <a:stretch/>
        </p:blipFill>
        <p:spPr>
          <a:xfrm>
            <a:off x="3917880" y="5548320"/>
            <a:ext cx="2304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94F8-F207-46FF-A2C8-51AD21B67C0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15 CuadroTexto"/>
          <p:cNvSpPr/>
          <p:nvPr/>
        </p:nvSpPr>
        <p:spPr>
          <a:xfrm>
            <a:off x="2700360" y="471168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Transportes, movilidad y agenda urb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6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7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81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82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4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7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92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93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7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8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402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403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8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9BB3-D3D3-48C4-AC61-BE80669AB703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1292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Sergio Capitan Herraiz</cp:lastModifiedBy>
  <cp:lastPrinted>2020-02-05T08:47:53Z</cp:lastPrinted>
  <dcterms:modified xsi:type="dcterms:W3CDTF">2020-02-05T11:17:29Z</dcterms:modified>
  <cp:revision>7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