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8.jpeg" ContentType="image/jpeg"/>
  <Override PartName="/ppt/media/image28.png" ContentType="image/pn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46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7DB-6F4B-4D61-BBEC-691D08F0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200-3F48-4375-B4DC-E443CAE2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F6CF1-9B07-4798-B901-92B065AA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B3916-496A-4B46-9F2C-CAB2C0E9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C2E0B-607C-48E6-BC6D-4A3F6C9D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71364-F94D-464D-B41C-2E5D9DAC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E2FBB-E465-4DBE-8385-3DDE2105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38C57-88E7-4D03-A3E2-434D32B5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D41DD-65BE-4C8D-AAF0-38C1354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025AF-E822-4DD0-A513-B3178FE7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88A3F-6C9C-47F3-87B2-A58516D4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6FE51-D7A2-429F-B6FD-3F5FBD4D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E5C-AC87-494D-AB68-83C1ADD3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CB72A-506C-42E5-A7E5-29B06EC1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D6F85-E737-4CE1-9DC0-2FAB32E3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9944C-EA60-4349-8B1F-BD1CBE3B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F2F3A-216B-4E02-81E9-364A24CC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20032-D816-4638-B2C7-B4DB1872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2FD30-9B16-4050-8DC0-AD42A357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AE7C9-9DC8-433A-A26D-DDB9386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16071-325C-433E-90EC-E8A3DF08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A3B6B-4C78-47DB-A8E3-A26FEA25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B3A0A-1AFF-48BB-A736-357982F6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CE2-BBBA-4F74-BF94-978DCD3E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0EC3A-B758-4DFA-AC7C-92AD3C26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26789-8E64-4D15-ADF8-2029BA88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AF366-8DBB-48BF-BB63-F4FFABC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AA149-808B-492C-841F-FDB166F7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A4140-9C4A-4024-B1D0-F89BE686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0FAF4-8494-4087-A6E7-3CAD02CE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1F66E-9858-4CC6-A172-1827FC49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32AEE-A099-4C00-8890-8B3C45EE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FE4EB-4960-424C-B62B-80446A34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1B420-8EF4-494A-9954-FF75DB6C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9799-7C33-4E93-A138-6C5889CE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BDC3C-C4BE-40E8-8C7F-69501E40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ECA25-A699-44B7-8054-9BE2C6ED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FF383-277C-4E38-8A4C-2A063D32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B01B5-916A-419D-9FA5-89FD0EE8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C5EB7-C86E-4BA6-924E-5E49F33B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91F7F-38A8-433F-BAC0-7BC2B6F9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8329E-2791-404B-8671-2FED23F4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AA399-2D10-411C-BDB4-A6BCB46C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30F95-5D6D-4EA7-AEF4-9BCD2C7F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F466B-029B-4751-97C2-066CF244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EBD2-1E03-457E-9C6D-46844C0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AA2C4-75CC-4DF4-B5FE-90EF97D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34F4B-C752-45FE-A29D-330035DC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49682-6BBC-4DF5-9BD6-6DB16894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8A1BA-D8C7-457D-9CC8-17CE8617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977F9-96E3-4B80-807E-5BE8038A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D35E-7F81-4E7C-8C74-888A2633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B55C-C40E-42D0-BA32-D7F277C9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7CF0-5586-4C8B-ACAE-082277DA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B21C-CDD0-4548-B0AA-4666C253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06F2-1024-44C9-AF3C-0C079D2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490-60BA-49F4-8E30-C5A5E9DF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CCCE-D8E5-40E5-97E2-805A4A35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5E2F-5E14-41DC-A5D5-57C42D9D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C5B4-F65F-4FB2-9476-E1834012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5769-7E3A-4B1C-9DBA-3363F6A9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3B5C-42F0-4AD9-AB02-04F8BE00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C58C-B4F3-44DB-9679-C4CBA87D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F3AA0-2FE7-4030-A8C1-E211D267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4061-B6BE-458E-B7D2-ECB2D78D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8AC0-9E83-4612-9154-3D42D7BF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4A49-11D5-49EC-AF22-5615F5FB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84E-0845-47F8-8BB0-38A4608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4813-58F7-4195-9458-D476CE84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0188-F4B4-40DC-A08A-1438053C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1B62-5778-4C30-8A97-D7D38708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7A77-5B86-46A1-8F3A-D741BAD3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8B24-B408-4FB1-9ECA-E1D131A3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8FF0-EDDD-4685-BE4B-E41D67D3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B423-5BFF-4E4D-A38C-DC2E31FC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CA793-854C-46C7-886D-D627780D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01E18-F608-4894-9A11-495A3231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A382-9F5B-4BB3-B504-D169F16C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C9A-9D07-4236-9C06-5CF04376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0EC7-401E-4ADC-B42F-C1F9F5F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8F328-25DE-4276-B99E-B7552B39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27BB-53D7-451B-8450-14A1F0A5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2A06-5083-4651-A6D7-871690E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1674E-D8BD-4E10-8DCF-874DC4F4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BB99-881B-48D0-8235-16AC1F1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2B539-B39C-47C0-89FB-42B8255E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6A99-0720-4D57-BE9D-1DB16A33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3A865-AF9A-48FE-88CF-DA2A9070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79D76-9C3C-4B65-99DC-4FC8388D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50E-B78B-4FC0-AF6E-9FC879F9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AC2A-54D7-47B1-B8D3-96CF061E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22305-1DCB-4D9E-82CB-4C62340D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470A-9F22-4C7D-8EB9-FA9BD9A1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DA475-E8E3-4A33-8DDC-CCBDAC0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E081-E993-4CE0-8149-7FBD0792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21F68-E8DC-44AC-B94D-9EA7BE25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D48BD-57E8-406B-88B2-6E46A9C4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50F39-4D26-4B8E-BDF6-BE441EF4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5EB9A-B7A6-4E1E-8724-97BD4524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4F6D-995E-4584-AFA9-7E687219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8D4-3EB2-4CB2-B77A-CA5B5273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0DCA-CC9F-4A70-8A03-EA2CF644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E008C-670C-4C19-A28A-512EC3D6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4758E-2796-4AB0-B596-4C202FE5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58E3E-65FE-4BB9-81ED-1E53E6CA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0789F-0A3A-4B07-85AB-D1B1342F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71DC3-72EB-46CF-90D0-A160E16D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962FE-E698-4F69-8A9D-741ECF0F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A011-7672-4462-8267-267C4ED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A1795-A197-41C0-A916-03834960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7C427-B002-41E1-819C-538B0465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D15-4546-491E-B52C-40FFDEE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64139-8C82-41B5-AF66-678630AA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2B4E1-CCCC-4AF2-9FEB-34092516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73314-17EC-4D75-B191-47596B8D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D72A6-5D81-463B-93B9-32D0F089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96B2F-8E2F-4D89-B66F-2FCCC7B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6D564-E9ED-4DB1-8883-92180ADC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059F8-E209-48ED-BAC0-D03A8CED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3DFE-E3A4-4C46-AC75-FF43C932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679A6-EE75-4BBE-8E74-9BA38A08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2219E-06AB-40FC-A77D-7E290D01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49C-1AF5-462D-ADE1-9D3DC08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14721-94E2-4C57-B3BC-07504A6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6ACEE-5DAE-4C47-B722-F6287B46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0BDF1-A1CA-4E74-8B97-8C6755A8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522FA-88B6-415C-9971-023E0EBF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1609E-2F57-44CE-886C-3C1DCC66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1812A-9BD8-4761-954A-EBB6D8FB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93409-8122-4634-93AB-B6ED1EF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7078C-06FC-4634-95F0-E4ADD365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15BBF-6A6B-4360-B0C8-2ACACD07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C622-6F19-4422-AB3E-2C7A7157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E7E-160D-4D3F-854B-7FF6EE6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B0961-F31E-47BA-98A2-C88D8541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F72E6-7419-4ED2-B46D-E5E7C5E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63D65-BF72-4911-B674-234874E7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F721C-E10B-49DB-BF23-27E0CE32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37E02-36B3-4F94-9562-A9F8DBF0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98CC8-8347-4299-B4A3-FD3966A7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7DF5A-AE03-424E-8E29-5979848F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B2750-A5BD-46E6-B873-8BA3D813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5E14B-F2C4-4EF5-B175-7FCF6A18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8E0F4-AA0F-437D-BB10-303DFD0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31B8-45B4-415E-AEB0-0754909B0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0"/>
            <a:ext cx="82296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1"/>
          <p:cNvSpPr/>
          <p:nvPr/>
        </p:nvSpPr>
        <p:spPr>
          <a:xfrm>
            <a:off x="6648120" y="601992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cf66b"/>
                </a:solidFill>
                <a:latin typeface="Arial"/>
              </a:rPr>
              <a:t>Ankur S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6915240" y="619452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cf66b"/>
                </a:solidFill>
                <a:latin typeface="Arial"/>
              </a:rPr>
              <a:t>the symbol of tr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3"/>
          <p:cNvSpPr/>
          <p:nvPr/>
        </p:nvSpPr>
        <p:spPr>
          <a:xfrm>
            <a:off x="7238880" y="6477120"/>
            <a:ext cx="1371600" cy="0"/>
          </a:xfrm>
          <a:prstGeom prst="line">
            <a:avLst/>
          </a:prstGeom>
          <a:ln w="9360">
            <a:solidFill>
              <a:srgbClr val="5cf6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762120" y="792000"/>
            <a:ext cx="4495680" cy="460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ff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3716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A0B-1AC0-4417-9419-C7922577C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B7F4-EA4D-49E8-8795-D9A16C886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5C46-1E38-44FD-9558-77F2B1D08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AF0C-D8CA-4E99-9BC3-9FDE708C2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BD78-54B7-412B-9BE8-CC67748F0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341E-6915-4929-87A0-89F8E61B2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5B90-B7F6-4370-BD1D-1AD6E8164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A7B3-A2F3-40FF-9104-C481E92B4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747-B6B4-4927-B6FC-56E2DA6F9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688B-BD79-41CD-966E-AB5DC1E29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BFED-26E5-455A-A094-9674D7108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1295640" y="-1440"/>
            <a:ext cx="830556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onstantia"/>
              </a:rPr>
              <a:t>Ankur Seeds Pvt L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28240" y="3657600"/>
            <a:ext cx="5334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nstantia"/>
              </a:rPr>
              <a:t>Dr. Ashwin Kashik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nstantia"/>
              </a:rPr>
              <a:t>General Manager, R&amp;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2"/>
          <a:stretch/>
        </p:blipFill>
        <p:spPr>
          <a:xfrm>
            <a:off x="708660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Rectangle 6"/>
          <p:cNvGrpSpPr/>
          <p:nvPr/>
        </p:nvGrpSpPr>
        <p:grpSpPr>
          <a:xfrm>
            <a:off x="2914560" y="268200"/>
            <a:ext cx="3194280" cy="731880"/>
            <a:chOff x="2914560" y="268200"/>
            <a:chExt cx="3194280" cy="731880"/>
          </a:xfrm>
        </p:grpSpPr>
        <p:pic>
          <p:nvPicPr>
            <p:cNvPr id="581" name="Rectangle 6" descr=""/>
            <p:cNvPicPr/>
            <p:nvPr/>
          </p:nvPicPr>
          <p:blipFill>
            <a:blip r:embed="rId1"/>
            <a:stretch/>
          </p:blipFill>
          <p:spPr>
            <a:xfrm>
              <a:off x="2914560" y="268200"/>
              <a:ext cx="31942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2971800" y="30492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Tissue Cultur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 txBox="1"/>
          <p:nvPr/>
        </p:nvSpPr>
        <p:spPr>
          <a:xfrm>
            <a:off x="1066320" y="175212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velopment of regeneration protocols in the crops of intere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mbryo rescue techniq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velopment of transgenic Eggplant, Tomato and Hot pepper  and rice with marker free technolog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ther Culture in Chili and Padd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2"/>
          <a:stretch/>
        </p:blipFill>
        <p:spPr>
          <a:xfrm>
            <a:off x="7696080" y="8424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Rectangle 2"/>
          <p:cNvGrpSpPr/>
          <p:nvPr/>
        </p:nvGrpSpPr>
        <p:grpSpPr>
          <a:xfrm>
            <a:off x="2073240" y="347760"/>
            <a:ext cx="4613400" cy="731880"/>
            <a:chOff x="2073240" y="347760"/>
            <a:chExt cx="4613400" cy="731880"/>
          </a:xfrm>
        </p:grpSpPr>
        <p:pic>
          <p:nvPicPr>
            <p:cNvPr id="586" name="Rectangle 2" descr=""/>
            <p:cNvPicPr/>
            <p:nvPr/>
          </p:nvPicPr>
          <p:blipFill>
            <a:blip r:embed="rId1"/>
            <a:stretch/>
          </p:blipFill>
          <p:spPr>
            <a:xfrm>
              <a:off x="2073240" y="347760"/>
              <a:ext cx="46134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133720" y="380880"/>
              <a:ext cx="4495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Cytogenetic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hromosome studies: chromosome morphology and aber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utation breeding for improvement of crop , deletion and addition of new trai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alynological Studies : CMS line confirmation, pollen viability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firmation of inter-specific derivativ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hysiological and anatomical studies.  E.g.. Stomatal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Rectangle 2"/>
          <p:cNvGrpSpPr/>
          <p:nvPr/>
        </p:nvGrpSpPr>
        <p:grpSpPr>
          <a:xfrm>
            <a:off x="1311120" y="268200"/>
            <a:ext cx="6289920" cy="743040"/>
            <a:chOff x="1311120" y="268200"/>
            <a:chExt cx="6289920" cy="743040"/>
          </a:xfrm>
        </p:grpSpPr>
        <p:pic>
          <p:nvPicPr>
            <p:cNvPr id="591" name="Rectangle 2" descr=""/>
            <p:cNvPicPr/>
            <p:nvPr/>
          </p:nvPicPr>
          <p:blipFill>
            <a:blip r:embed="rId1"/>
            <a:stretch/>
          </p:blipFill>
          <p:spPr>
            <a:xfrm>
              <a:off x="1311120" y="268200"/>
              <a:ext cx="62899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371600" y="304920"/>
              <a:ext cx="61722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Plant Protection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685800" y="1371600"/>
            <a:ext cx="7391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Patholo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ollection &amp; maintenance of disease causing isolates from different area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esistance screening of germplasm against different diseases of importan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Entomolo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aptive Rearing of inse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nsect bioassay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aseline susceptibility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Development of diet protoco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esistance screening of germplasm against different pest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7772400" y="8424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5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Rectangle 2"/>
          <p:cNvGrpSpPr/>
          <p:nvPr/>
        </p:nvGrpSpPr>
        <p:grpSpPr>
          <a:xfrm>
            <a:off x="1920960" y="195120"/>
            <a:ext cx="5089320" cy="731880"/>
            <a:chOff x="1920960" y="195120"/>
            <a:chExt cx="5089320" cy="731880"/>
          </a:xfrm>
        </p:grpSpPr>
        <p:pic>
          <p:nvPicPr>
            <p:cNvPr id="596" name="Rectangle 2" descr=""/>
            <p:cNvPicPr/>
            <p:nvPr/>
          </p:nvPicPr>
          <p:blipFill>
            <a:blip r:embed="rId1"/>
            <a:stretch/>
          </p:blipFill>
          <p:spPr>
            <a:xfrm>
              <a:off x="1920960" y="195120"/>
              <a:ext cx="50893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1981080" y="228600"/>
              <a:ext cx="497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Biochemistry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 txBox="1"/>
          <p:nvPr/>
        </p:nvSpPr>
        <p:spPr>
          <a:xfrm>
            <a:off x="83772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ality Analysis: Capsaicin and oleoresin content in chili, lycopene content in tomato, amylose content ,test weight in r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udy of nitrogen and phosphorus use efficiency in 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alysis of anti-nutritional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rrelation studies of biochemical parameters with biotic &amp; abiotic re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Rectangle 2"/>
          <p:cNvGrpSpPr/>
          <p:nvPr/>
        </p:nvGrpSpPr>
        <p:grpSpPr>
          <a:xfrm>
            <a:off x="1463760" y="268200"/>
            <a:ext cx="5984640" cy="779400"/>
            <a:chOff x="1463760" y="268200"/>
            <a:chExt cx="5984640" cy="779400"/>
          </a:xfrm>
        </p:grpSpPr>
        <p:pic>
          <p:nvPicPr>
            <p:cNvPr id="601" name="Rectangle 2" descr=""/>
            <p:cNvPicPr/>
            <p:nvPr/>
          </p:nvPicPr>
          <p:blipFill>
            <a:blip r:embed="rId1"/>
            <a:stretch/>
          </p:blipFill>
          <p:spPr>
            <a:xfrm>
              <a:off x="1463760" y="268200"/>
              <a:ext cx="59846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523880" y="304920"/>
              <a:ext cx="58676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Notable Contribution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turistic seed production technology to avoid acid delint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prietary diversified lintless GMS lines are under evalu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lobally Ankur is the first company to develop CGMS technology in Brinj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1012"/>
              </a:spcBef>
              <a:buClr>
                <a:srgbClr val="25406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ddy Sonam is the first research OP variety from the Private 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st to introduce hybrid Okra in the market AROH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012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6" descr="DSC04368"/>
          <p:cNvPicPr/>
          <p:nvPr/>
        </p:nvPicPr>
        <p:blipFill>
          <a:blip r:embed="rId2"/>
          <a:stretch/>
        </p:blipFill>
        <p:spPr>
          <a:xfrm>
            <a:off x="990720" y="31240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" descr="DSC00843"/>
          <p:cNvPicPr/>
          <p:nvPr/>
        </p:nvPicPr>
        <p:blipFill>
          <a:blip r:embed="rId3"/>
          <a:stretch/>
        </p:blipFill>
        <p:spPr>
          <a:xfrm>
            <a:off x="2590920" y="31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" descr="fertile"/>
          <p:cNvPicPr/>
          <p:nvPr/>
        </p:nvPicPr>
        <p:blipFill>
          <a:blip r:embed="rId4"/>
          <a:stretch/>
        </p:blipFill>
        <p:spPr>
          <a:xfrm>
            <a:off x="2590920" y="548640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P-14-A-fl"/>
          <p:cNvPicPr/>
          <p:nvPr/>
        </p:nvPicPr>
        <p:blipFill>
          <a:blip r:embed="rId5"/>
          <a:stretch/>
        </p:blipFill>
        <p:spPr>
          <a:xfrm>
            <a:off x="990720" y="548640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609" name="TextBox 9"/>
          <p:cNvSpPr/>
          <p:nvPr/>
        </p:nvSpPr>
        <p:spPr>
          <a:xfrm>
            <a:off x="990720" y="6629400"/>
            <a:ext cx="1295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0"/>
          <p:cNvSpPr/>
          <p:nvPr/>
        </p:nvSpPr>
        <p:spPr>
          <a:xfrm>
            <a:off x="762120" y="6553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steril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1"/>
          <p:cNvSpPr/>
          <p:nvPr/>
        </p:nvSpPr>
        <p:spPr>
          <a:xfrm>
            <a:off x="2362320" y="6581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fertil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6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Rectangle 5"/>
          <p:cNvGrpSpPr/>
          <p:nvPr/>
        </p:nvGrpSpPr>
        <p:grpSpPr>
          <a:xfrm>
            <a:off x="1158840" y="195120"/>
            <a:ext cx="6746760" cy="731880"/>
            <a:chOff x="1158840" y="195120"/>
            <a:chExt cx="6746760" cy="731880"/>
          </a:xfrm>
        </p:grpSpPr>
        <p:pic>
          <p:nvPicPr>
            <p:cNvPr id="614" name="Rectangle 5" descr=""/>
            <p:cNvPicPr/>
            <p:nvPr/>
          </p:nvPicPr>
          <p:blipFill>
            <a:blip r:embed="rId1"/>
            <a:stretch/>
          </p:blipFill>
          <p:spPr>
            <a:xfrm>
              <a:off x="1158840" y="195120"/>
              <a:ext cx="67467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219320" y="228600"/>
              <a:ext cx="6629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Global Access &amp; Collaboration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Picture 2" descr="https://encrypted-tbn1.gstatic.com/images?q=tbn:ANd9GcRrd58Zn5OYtg7eiVT8-fzECFdnCLIJKq2W_u44nVhRdTIB84yUpw"/>
          <p:cNvPicPr/>
          <p:nvPr/>
        </p:nvPicPr>
        <p:blipFill>
          <a:blip r:embed="rId2"/>
          <a:stretch/>
        </p:blipFill>
        <p:spPr>
          <a:xfrm>
            <a:off x="1143000" y="1219320"/>
            <a:ext cx="2743200" cy="915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https://cornellbrand.cornell.edu/images/electronic-slideshow-large-1.jpg"/>
          <p:cNvPicPr/>
          <p:nvPr/>
        </p:nvPicPr>
        <p:blipFill>
          <a:blip r:embed="rId3"/>
          <a:srcRect l="15479" t="31957" r="15577" b="39857"/>
          <a:stretch/>
        </p:blipFill>
        <p:spPr>
          <a:xfrm>
            <a:off x="1143000" y="2286000"/>
            <a:ext cx="2786040" cy="852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https://encrypted-tbn3.gstatic.com/images?q=tbn:ANd9GcTtFIp1tUiR3F7IieOOtdZk7K_LE-PM3DC1esiDMFhcnvKx1e7ikA"/>
          <p:cNvPicPr/>
          <p:nvPr/>
        </p:nvPicPr>
        <p:blipFill>
          <a:blip r:embed="rId4"/>
          <a:stretch/>
        </p:blipFill>
        <p:spPr>
          <a:xfrm>
            <a:off x="1219320" y="4343400"/>
            <a:ext cx="1712880" cy="2071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https://encrypted-tbn1.gstatic.com/images?q=tbn:ANd9GcQ46-N7QOI6fcErk_hcvFwF_2xedsCraY7D7svjC8FCT-EKNjIV"/>
          <p:cNvPicPr/>
          <p:nvPr/>
        </p:nvPicPr>
        <p:blipFill>
          <a:blip r:embed="rId5"/>
          <a:stretch/>
        </p:blipFill>
        <p:spPr>
          <a:xfrm>
            <a:off x="1143000" y="3505320"/>
            <a:ext cx="2786040" cy="5490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https://encrypted-tbn1.gstatic.com/images?q=tbn:ANd9GcSvMpwxBKVCJnhkUmTL2twYgqJIpug8aTy3MMF4JN3MMP9KolSXUg"/>
          <p:cNvPicPr/>
          <p:nvPr/>
        </p:nvPicPr>
        <p:blipFill>
          <a:blip r:embed="rId6"/>
          <a:stretch/>
        </p:blipFill>
        <p:spPr>
          <a:xfrm>
            <a:off x="5562720" y="5791320"/>
            <a:ext cx="2957400" cy="6429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4" descr="https://encrypted-tbn3.gstatic.com/images?q=tbn:ANd9GcQARUp-05QJoUQHcHQhc88Y5sqzioQmTD5qxyUfNS7r95BNRLk4"/>
          <p:cNvPicPr/>
          <p:nvPr/>
        </p:nvPicPr>
        <p:blipFill>
          <a:blip r:embed="rId7"/>
          <a:stretch/>
        </p:blipFill>
        <p:spPr>
          <a:xfrm>
            <a:off x="5638680" y="4724280"/>
            <a:ext cx="2814840" cy="8575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6" descr="https://encrypted-tbn2.gstatic.com/images?q=tbn:ANd9GcTLu68j-dSr6_ff3ACh_xkLA28dvI5_rE4tAVW4Js3xPlZuzNwZ2g"/>
          <p:cNvPicPr/>
          <p:nvPr/>
        </p:nvPicPr>
        <p:blipFill>
          <a:blip r:embed="rId8"/>
          <a:stretch/>
        </p:blipFill>
        <p:spPr>
          <a:xfrm>
            <a:off x="5562720" y="3657600"/>
            <a:ext cx="2747880" cy="785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https://encrypted-tbn0.gstatic.com/images?q=tbn:ANd9GcSxi3k-ojVAwNMh0OrBH5QonsIiRtJq0Y0B-UxOvBFaRSEFAUfq"/>
          <p:cNvPicPr/>
          <p:nvPr/>
        </p:nvPicPr>
        <p:blipFill>
          <a:blip r:embed="rId9"/>
          <a:stretch/>
        </p:blipFill>
        <p:spPr>
          <a:xfrm>
            <a:off x="3200400" y="434340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0" descr="http://www.delhieducation.net/Universities/DU/img/du.jpg"/>
          <p:cNvPicPr/>
          <p:nvPr/>
        </p:nvPicPr>
        <p:blipFill>
          <a:blip r:embed="rId10"/>
          <a:stretch/>
        </p:blipFill>
        <p:spPr>
          <a:xfrm>
            <a:off x="4419720" y="1143000"/>
            <a:ext cx="1857240" cy="18288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4" descr="http://www.tlsindia.com/IARI/IARI%20Library_files/IARI-logo-small.gif"/>
          <p:cNvPicPr/>
          <p:nvPr/>
        </p:nvPicPr>
        <p:blipFill>
          <a:blip r:embed="rId11"/>
          <a:stretch/>
        </p:blipFill>
        <p:spPr>
          <a:xfrm>
            <a:off x="6400800" y="1143000"/>
            <a:ext cx="1886040" cy="17859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"/>
          <p:cNvPicPr/>
          <p:nvPr/>
        </p:nvPicPr>
        <p:blipFill>
          <a:blip r:embed="rId12"/>
          <a:stretch/>
        </p:blipFill>
        <p:spPr>
          <a:xfrm>
            <a:off x="777240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ollaboration with Spain, we can develop water use efficient varieties of veget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MS brinjal lines are available for licen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together in developing technologies in tomato like longer shelf life, transportability and virus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help Spanish companies to produce plant based therapeutic proteins in content condition in a cost effective ma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Rectangle 2"/>
          <p:cNvGrpSpPr/>
          <p:nvPr/>
        </p:nvGrpSpPr>
        <p:grpSpPr>
          <a:xfrm>
            <a:off x="1085760" y="347760"/>
            <a:ext cx="6838560" cy="871200"/>
            <a:chOff x="1085760" y="347760"/>
            <a:chExt cx="6838560" cy="871200"/>
          </a:xfrm>
        </p:grpSpPr>
        <p:pic>
          <p:nvPicPr>
            <p:cNvPr id="629" name="Rectangle 2" descr=""/>
            <p:cNvPicPr/>
            <p:nvPr/>
          </p:nvPicPr>
          <p:blipFill>
            <a:blip r:embed="rId1"/>
            <a:stretch/>
          </p:blipFill>
          <p:spPr>
            <a:xfrm>
              <a:off x="1085760" y="347760"/>
              <a:ext cx="683856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159560" y="381600"/>
              <a:ext cx="669096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17375e"/>
                  </a:solidFill>
                  <a:latin typeface="Constantia"/>
                </a:rPr>
                <a:t>Indo-Spain Collaboration : Prospect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WordArt 3"/>
          <p:cNvSpPr txBox="1"/>
          <p:nvPr/>
        </p:nvSpPr>
        <p:spPr>
          <a:xfrm>
            <a:off x="2133720" y="2286000"/>
            <a:ext cx="41148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4579b8"/>
                  </a:solidFill>
                  <a:miter/>
                </a:ln>
                <a:gradFill rotWithShape="0">
                  <a:gsLst>
                    <a:gs pos="0">
                      <a:srgbClr val="bed3f9"/>
                    </a:gs>
                    <a:gs pos="100000">
                      <a:srgbClr val="bed3f9"/>
                    </a:gs>
                  </a:gsLst>
                  <a:lin ang="5400000"/>
                </a:gradFill>
                <a:latin typeface="Constantia"/>
              </a:rPr>
              <a:t>  </a:t>
            </a:r>
            <a:endParaRPr b="1" lang="en-US" sz="1800" spc="1" strike="noStrike">
              <a:ln w="10440">
                <a:solidFill>
                  <a:srgbClr val="4579b8"/>
                </a:solidFill>
                <a:miter/>
              </a:ln>
              <a:gradFill rotWithShape="0">
                <a:gsLst>
                  <a:gs pos="0">
                    <a:srgbClr val="bed3f9"/>
                  </a:gs>
                  <a:gs pos="100000">
                    <a:srgbClr val="bed3f9"/>
                  </a:gs>
                </a:gsLst>
                <a:lin ang="5400000"/>
              </a:gradFill>
              <a:latin typeface="Constantia"/>
              <a:ea typeface="Constanti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16292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Constantia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4" descr=""/>
          <p:cNvPicPr/>
          <p:nvPr/>
        </p:nvPicPr>
        <p:blipFill>
          <a:blip r:embed="rId1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4"/>
          <p:cNvSpPr/>
          <p:nvPr/>
        </p:nvSpPr>
        <p:spPr>
          <a:xfrm>
            <a:off x="533520" y="1066680"/>
            <a:ext cx="861048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nded in 1976 , the company has a  solid experience of more than 35 years in agri-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iven by continuous innovation in every field of activity like Research, Production, Processing, Quality and Mark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cognized by Department of Scientific and Industrial Research, Government of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nners of National Award from Government of India for R&amp;D achie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itiating research with Cotton, Okra &amp; Brinjal, the company is now working on 16 cro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Text Box 5"/>
          <p:cNvGrpSpPr/>
          <p:nvPr/>
        </p:nvGrpSpPr>
        <p:grpSpPr>
          <a:xfrm>
            <a:off x="1158840" y="195120"/>
            <a:ext cx="6364440" cy="804960"/>
            <a:chOff x="1158840" y="195120"/>
            <a:chExt cx="6364440" cy="804960"/>
          </a:xfrm>
        </p:grpSpPr>
        <p:pic>
          <p:nvPicPr>
            <p:cNvPr id="503" name="Text Box 5" descr=""/>
            <p:cNvPicPr/>
            <p:nvPr/>
          </p:nvPicPr>
          <p:blipFill>
            <a:blip r:embed="rId1"/>
            <a:stretch/>
          </p:blipFill>
          <p:spPr>
            <a:xfrm>
              <a:off x="1158840" y="195120"/>
              <a:ext cx="6364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1249200" y="334800"/>
              <a:ext cx="61884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nstantia"/>
                </a:rPr>
                <a:t>Ankur Seeds: Key Featu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777240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Content Placeholder 3" descr=""/>
          <p:cNvPicPr/>
          <p:nvPr/>
        </p:nvPicPr>
        <p:blipFill>
          <a:blip r:embed="rId1"/>
          <a:stretch/>
        </p:blipFill>
        <p:spPr>
          <a:xfrm>
            <a:off x="530280" y="603360"/>
            <a:ext cx="8242200" cy="5833800"/>
          </a:xfrm>
          <a:prstGeom prst="rect">
            <a:avLst/>
          </a:prstGeom>
          <a:ln w="0">
            <a:noFill/>
          </a:ln>
        </p:spPr>
      </p:pic>
      <p:grpSp>
        <p:nvGrpSpPr>
          <p:cNvPr id="507" name="Text Box 5"/>
          <p:cNvGrpSpPr/>
          <p:nvPr/>
        </p:nvGrpSpPr>
        <p:grpSpPr>
          <a:xfrm>
            <a:off x="1311120" y="268200"/>
            <a:ext cx="6364440" cy="811440"/>
            <a:chOff x="1311120" y="268200"/>
            <a:chExt cx="6364440" cy="811440"/>
          </a:xfrm>
        </p:grpSpPr>
        <p:pic>
          <p:nvPicPr>
            <p:cNvPr id="508" name="Text Box 5" descr=""/>
            <p:cNvPicPr/>
            <p:nvPr/>
          </p:nvPicPr>
          <p:blipFill>
            <a:blip r:embed="rId2"/>
            <a:stretch/>
          </p:blipFill>
          <p:spPr>
            <a:xfrm>
              <a:off x="1311120" y="268200"/>
              <a:ext cx="63644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401840" y="411120"/>
              <a:ext cx="61880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7375e"/>
                  </a:solidFill>
                  <a:latin typeface="Constantia"/>
                </a:rPr>
                <a:t>Ankur Seeds- Core Divi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4" descr=""/>
          <p:cNvPicPr/>
          <p:nvPr/>
        </p:nvPicPr>
        <p:blipFill>
          <a:blip r:embed="rId3"/>
          <a:stretch/>
        </p:blipFill>
        <p:spPr>
          <a:xfrm>
            <a:off x="7696080" y="8424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3" descr="BLANK"/>
          <p:cNvPicPr/>
          <p:nvPr/>
        </p:nvPicPr>
        <p:blipFill>
          <a:blip r:embed="rId1"/>
          <a:stretch/>
        </p:blipFill>
        <p:spPr>
          <a:xfrm>
            <a:off x="-115920" y="-96840"/>
            <a:ext cx="6407280" cy="69310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4"/>
          <p:cNvSpPr/>
          <p:nvPr/>
        </p:nvSpPr>
        <p:spPr>
          <a:xfrm>
            <a:off x="6400800" y="685800"/>
            <a:ext cx="2743200" cy="5715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452a"/>
                </a:solidFill>
                <a:latin typeface="Verdana"/>
              </a:rPr>
              <a:t>PROCESSING PLA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339933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KALMESHWAR (MAHARASHTR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AIGAON (MAHARASHTR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MALKAPUR (MAHARASHTR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ADIAD (GUJRA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MANSA (GUJRA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KURNOOL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YEMMIGANUR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RMOOR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33"/>
                </a:solidFill>
                <a:latin typeface="Webdings"/>
                <a:ea typeface="Webdings"/>
              </a:rPr>
              <a:t>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RANEBENNUR (KARNATAK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00"/>
                </a:solidFill>
                <a:latin typeface="Verdana"/>
              </a:rPr>
              <a:t>RESEARCH 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1100" spc="-1" strike="noStrike">
                <a:solidFill>
                  <a:srgbClr val="cc0000"/>
                </a:solidFill>
                <a:latin typeface="Verdana"/>
              </a:rPr>
              <a:t>NERI- Biotech Lab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1100" spc="-1" strike="noStrike">
                <a:solidFill>
                  <a:srgbClr val="cc0000"/>
                </a:solidFill>
                <a:latin typeface="Verdana"/>
              </a:rPr>
              <a:t>KINH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1100" spc="-1" strike="noStrike">
                <a:solidFill>
                  <a:srgbClr val="cc0000"/>
                </a:solidFill>
                <a:latin typeface="Verdana"/>
              </a:rPr>
              <a:t>HYDERABAD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1100" spc="-1" strike="noStrike">
                <a:solidFill>
                  <a:srgbClr val="cc0000"/>
                </a:solidFill>
                <a:latin typeface="Verdana"/>
              </a:rPr>
              <a:t>GANDHI NAGAR (GUJARA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6600"/>
                </a:solidFill>
                <a:latin typeface="Verdana"/>
              </a:rPr>
              <a:t>DEHUMIDIFIED GO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KALMESHW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WAIGAON </a:t>
            </a:r>
            <a:r>
              <a:rPr b="0" lang="en-US" sz="12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NGR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1962000" y="3525840"/>
            <a:ext cx="116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r>
              <a:rPr b="0" lang="en-US" sz="8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KALMESHW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1460520" y="369720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r>
              <a:rPr b="0" lang="en-US" sz="800" spc="-1" strike="noStrike">
                <a:solidFill>
                  <a:srgbClr val="000000"/>
                </a:solidFill>
                <a:latin typeface="Webdings"/>
                <a:ea typeface="Webdings"/>
              </a:rPr>
              <a:t>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WAIGA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>
            <a:off x="1003320" y="376704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MALKAP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1447920" y="4537080"/>
            <a:ext cx="901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KURN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1438200" y="476244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YEMMIGAN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330120" y="3114720"/>
            <a:ext cx="90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r>
              <a:rPr b="1" lang="en-US" sz="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NADI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1514520" y="344952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Verdana"/>
              </a:rPr>
              <a:t>NER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3"/>
          <p:cNvSpPr/>
          <p:nvPr/>
        </p:nvSpPr>
        <p:spPr>
          <a:xfrm>
            <a:off x="1765440" y="4060800"/>
            <a:ext cx="90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00"/>
                </a:solidFill>
                <a:latin typeface="Webdings"/>
                <a:ea typeface="Webdings"/>
              </a:rPr>
              <a:t>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ARMO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574640" y="361944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Verdana"/>
              </a:rPr>
              <a:t>KINHI </a:t>
            </a:r>
            <a:r>
              <a:rPr b="1" lang="en-US" sz="8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774720" y="4842000"/>
            <a:ext cx="90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ANEBENN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314280" y="2954160"/>
            <a:ext cx="901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00"/>
                </a:solidFill>
                <a:latin typeface="Webdings"/>
                <a:ea typeface="Webdings"/>
              </a:rPr>
              <a:t>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AN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7"/>
          <p:cNvSpPr/>
          <p:nvPr/>
        </p:nvSpPr>
        <p:spPr>
          <a:xfrm>
            <a:off x="2039400" y="4089240"/>
            <a:ext cx="10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9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Verdana"/>
              </a:rPr>
              <a:t>HYDERAB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"/>
          <p:cNvSpPr/>
          <p:nvPr/>
        </p:nvSpPr>
        <p:spPr>
          <a:xfrm>
            <a:off x="653040" y="306072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Webdings"/>
                <a:ea typeface="Webdings"/>
              </a:rPr>
              <a:t></a:t>
            </a:r>
            <a:r>
              <a:rPr b="1" lang="en-US" sz="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Verdana"/>
              </a:rPr>
              <a:t>GANDHI NAG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6248520" y="228600"/>
            <a:ext cx="2895480" cy="3531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Ankur Infra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7772400" y="792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BLANK"/>
          <p:cNvPicPr/>
          <p:nvPr/>
        </p:nvPicPr>
        <p:blipFill>
          <a:blip r:embed="rId1"/>
          <a:stretch/>
        </p:blipFill>
        <p:spPr>
          <a:xfrm>
            <a:off x="533520" y="84240"/>
            <a:ext cx="6324480" cy="66214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6858000" y="1523880"/>
            <a:ext cx="2590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452a"/>
                </a:solidFill>
                <a:latin typeface="Verdana"/>
              </a:rPr>
              <a:t>OUR OFF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GPUR (MAHARASHTRA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HMEDABAD (GUJRA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DORE (M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YDERABAD (A.P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W DELHI (DELH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T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ANCH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IP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KO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IMBAT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UCKN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LGA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2658960" y="3610080"/>
            <a:ext cx="68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NAGP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1832040" y="3200400"/>
            <a:ext cx="1028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IND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2"/>
          <p:cNvSpPr/>
          <p:nvPr/>
        </p:nvSpPr>
        <p:spPr>
          <a:xfrm>
            <a:off x="2413080" y="4186080"/>
            <a:ext cx="1028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HYDERABA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2108160" y="1930320"/>
            <a:ext cx="1028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w Delh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3063960" y="2263680"/>
            <a:ext cx="1028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LUCKNOW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3911760" y="2492280"/>
            <a:ext cx="685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PAT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3911760" y="294480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RANCH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3162240" y="342900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RAIP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8"/>
          <p:cNvSpPr/>
          <p:nvPr/>
        </p:nvSpPr>
        <p:spPr>
          <a:xfrm>
            <a:off x="1359000" y="401328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PU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1886040" y="2184480"/>
            <a:ext cx="685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JAIP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2190600" y="5727600"/>
            <a:ext cx="1054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COIMBAT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1816200" y="3490920"/>
            <a:ext cx="761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JALGA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2235240" y="3699000"/>
            <a:ext cx="68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0504d"/>
                </a:solidFill>
                <a:latin typeface="Wingdings"/>
                <a:ea typeface="Wingdings"/>
              </a:rPr>
              <a:t>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AKO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990720" y="2971800"/>
            <a:ext cx="1028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AhmedaBA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1676520" y="4724280"/>
            <a:ext cx="8380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66"/>
                </a:solidFill>
                <a:latin typeface="Wingdings"/>
                <a:ea typeface="Wingdings"/>
              </a:rPr>
              <a:t>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DHARWA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2"/>
          <a:stretch/>
        </p:blipFill>
        <p:spPr>
          <a:xfrm>
            <a:off x="7696080" y="8424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Rectangle 2"/>
          <p:cNvGrpSpPr/>
          <p:nvPr/>
        </p:nvGrpSpPr>
        <p:grpSpPr>
          <a:xfrm>
            <a:off x="1542960" y="-92160"/>
            <a:ext cx="5643720" cy="714600"/>
            <a:chOff x="1542960" y="-92160"/>
            <a:chExt cx="5643720" cy="714600"/>
          </a:xfrm>
        </p:grpSpPr>
        <p:pic>
          <p:nvPicPr>
            <p:cNvPr id="547" name="Rectangle 2" descr=""/>
            <p:cNvPicPr/>
            <p:nvPr/>
          </p:nvPicPr>
          <p:blipFill>
            <a:blip r:embed="rId1"/>
            <a:stretch/>
          </p:blipFill>
          <p:spPr>
            <a:xfrm>
              <a:off x="1542960" y="-92160"/>
              <a:ext cx="564372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1600200" y="0"/>
              <a:ext cx="5529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Research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Group 24" descr=""/>
          <p:cNvPicPr/>
          <p:nvPr/>
        </p:nvPicPr>
        <p:blipFill>
          <a:blip r:embed="rId2"/>
          <a:stretch/>
        </p:blipFill>
        <p:spPr>
          <a:xfrm>
            <a:off x="3048120" y="579600"/>
            <a:ext cx="2835000" cy="2651040"/>
          </a:xfrm>
          <a:prstGeom prst="rect">
            <a:avLst/>
          </a:prstGeom>
          <a:ln w="0">
            <a:noFill/>
          </a:ln>
        </p:spPr>
      </p:pic>
      <p:pic>
        <p:nvPicPr>
          <p:cNvPr id="550" name="Group 29" descr=""/>
          <p:cNvPicPr/>
          <p:nvPr/>
        </p:nvPicPr>
        <p:blipFill>
          <a:blip r:embed="rId3"/>
          <a:stretch/>
        </p:blipFill>
        <p:spPr>
          <a:xfrm>
            <a:off x="5572080" y="4243320"/>
            <a:ext cx="2906640" cy="2840040"/>
          </a:xfrm>
          <a:prstGeom prst="rect">
            <a:avLst/>
          </a:prstGeom>
          <a:ln w="0">
            <a:noFill/>
          </a:ln>
        </p:spPr>
      </p:pic>
      <p:pic>
        <p:nvPicPr>
          <p:cNvPr id="551" name="Group 23" descr=""/>
          <p:cNvPicPr/>
          <p:nvPr/>
        </p:nvPicPr>
        <p:blipFill>
          <a:blip r:embed="rId4"/>
          <a:stretch/>
        </p:blipFill>
        <p:spPr>
          <a:xfrm>
            <a:off x="5632560" y="1652760"/>
            <a:ext cx="2779560" cy="2651040"/>
          </a:xfrm>
          <a:prstGeom prst="rect">
            <a:avLst/>
          </a:prstGeom>
          <a:ln w="0">
            <a:noFill/>
          </a:ln>
        </p:spPr>
      </p:pic>
      <p:pic>
        <p:nvPicPr>
          <p:cNvPr id="552" name="Group 27" descr=""/>
          <p:cNvPicPr/>
          <p:nvPr/>
        </p:nvPicPr>
        <p:blipFill>
          <a:blip r:embed="rId5"/>
          <a:stretch/>
        </p:blipFill>
        <p:spPr>
          <a:xfrm>
            <a:off x="255600" y="4011480"/>
            <a:ext cx="2828880" cy="2181240"/>
          </a:xfrm>
          <a:prstGeom prst="rect">
            <a:avLst/>
          </a:prstGeom>
          <a:ln w="0">
            <a:noFill/>
          </a:ln>
        </p:spPr>
      </p:pic>
      <p:pic>
        <p:nvPicPr>
          <p:cNvPr id="553" name="Group 22" descr=""/>
          <p:cNvPicPr/>
          <p:nvPr/>
        </p:nvPicPr>
        <p:blipFill>
          <a:blip r:embed="rId6"/>
          <a:stretch/>
        </p:blipFill>
        <p:spPr>
          <a:xfrm>
            <a:off x="2944800" y="4780080"/>
            <a:ext cx="2968560" cy="2736720"/>
          </a:xfrm>
          <a:prstGeom prst="rect">
            <a:avLst/>
          </a:prstGeom>
          <a:ln w="0">
            <a:noFill/>
          </a:ln>
        </p:spPr>
      </p:pic>
      <p:pic>
        <p:nvPicPr>
          <p:cNvPr id="554" name="Group 26" descr=""/>
          <p:cNvPicPr/>
          <p:nvPr/>
        </p:nvPicPr>
        <p:blipFill>
          <a:blip r:embed="rId7"/>
          <a:stretch/>
        </p:blipFill>
        <p:spPr>
          <a:xfrm>
            <a:off x="365040" y="1500120"/>
            <a:ext cx="2963880" cy="2895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8" descr="Plant%20Breeding%203.jpg"/>
          <p:cNvPicPr/>
          <p:nvPr/>
        </p:nvPicPr>
        <p:blipFill>
          <a:blip r:embed="rId8"/>
          <a:stretch/>
        </p:blipFill>
        <p:spPr>
          <a:xfrm>
            <a:off x="3395520" y="2719440"/>
            <a:ext cx="2505240" cy="2779560"/>
          </a:xfrm>
          <a:prstGeom prst="rect">
            <a:avLst/>
          </a:prstGeom>
          <a:ln w="0">
            <a:noFill/>
          </a:ln>
        </p:spPr>
      </p:pic>
      <p:pic>
        <p:nvPicPr>
          <p:cNvPr id="556" name="TextBox 31" descr=""/>
          <p:cNvPicPr/>
          <p:nvPr/>
        </p:nvPicPr>
        <p:blipFill>
          <a:blip r:embed="rId9"/>
          <a:stretch/>
        </p:blipFill>
        <p:spPr>
          <a:xfrm>
            <a:off x="3578400" y="4041720"/>
            <a:ext cx="2219040" cy="549360"/>
          </a:xfrm>
          <a:prstGeom prst="rect">
            <a:avLst/>
          </a:prstGeom>
          <a:ln w="0">
            <a:noFill/>
          </a:ln>
        </p:spPr>
      </p:pic>
      <p:pic>
        <p:nvPicPr>
          <p:cNvPr id="557" name="Content Placeholder 3" descr=""/>
          <p:cNvPicPr/>
          <p:nvPr/>
        </p:nvPicPr>
        <p:blipFill>
          <a:blip r:embed="rId10"/>
          <a:stretch/>
        </p:blipFill>
        <p:spPr>
          <a:xfrm>
            <a:off x="225360" y="-463680"/>
            <a:ext cx="2067120" cy="1768680"/>
          </a:xfrm>
          <a:prstGeom prst="rect">
            <a:avLst/>
          </a:prstGeom>
          <a:ln w="0">
            <a:noFill/>
          </a:ln>
        </p:spPr>
      </p:pic>
      <p:pic>
        <p:nvPicPr>
          <p:cNvPr id="558" name="Straight Connector 32" descr=""/>
          <p:cNvPicPr/>
          <p:nvPr/>
        </p:nvPicPr>
        <p:blipFill>
          <a:blip r:embed="rId11"/>
          <a:stretch/>
        </p:blipFill>
        <p:spPr>
          <a:xfrm>
            <a:off x="2889360" y="2828880"/>
            <a:ext cx="853920" cy="560520"/>
          </a:xfrm>
          <a:prstGeom prst="rect">
            <a:avLst/>
          </a:prstGeom>
          <a:ln w="0">
            <a:noFill/>
          </a:ln>
        </p:spPr>
      </p:pic>
      <p:pic>
        <p:nvPicPr>
          <p:cNvPr id="559" name="Straight Connector 33" descr=""/>
          <p:cNvPicPr/>
          <p:nvPr/>
        </p:nvPicPr>
        <p:blipFill>
          <a:blip r:embed="rId12"/>
          <a:stretch/>
        </p:blipFill>
        <p:spPr>
          <a:xfrm>
            <a:off x="5479920" y="2828880"/>
            <a:ext cx="854280" cy="530280"/>
          </a:xfrm>
          <a:prstGeom prst="rect">
            <a:avLst/>
          </a:prstGeom>
          <a:ln w="0">
            <a:noFill/>
          </a:ln>
        </p:spPr>
      </p:pic>
      <p:pic>
        <p:nvPicPr>
          <p:cNvPr id="560" name="Straight Connector 35" descr=""/>
          <p:cNvPicPr/>
          <p:nvPr/>
        </p:nvPicPr>
        <p:blipFill>
          <a:blip r:embed="rId13"/>
          <a:stretch/>
        </p:blipFill>
        <p:spPr>
          <a:xfrm>
            <a:off x="2736720" y="3895560"/>
            <a:ext cx="1096920" cy="590760"/>
          </a:xfrm>
          <a:prstGeom prst="rect">
            <a:avLst/>
          </a:prstGeom>
          <a:ln w="0">
            <a:noFill/>
          </a:ln>
        </p:spPr>
      </p:pic>
      <p:pic>
        <p:nvPicPr>
          <p:cNvPr id="561" name="Straight Connector 37" descr=""/>
          <p:cNvPicPr/>
          <p:nvPr/>
        </p:nvPicPr>
        <p:blipFill>
          <a:blip r:embed="rId14"/>
          <a:stretch/>
        </p:blipFill>
        <p:spPr>
          <a:xfrm>
            <a:off x="5553000" y="3895560"/>
            <a:ext cx="1079640" cy="633600"/>
          </a:xfrm>
          <a:prstGeom prst="rect">
            <a:avLst/>
          </a:prstGeom>
          <a:ln w="0">
            <a:noFill/>
          </a:ln>
        </p:spPr>
      </p:pic>
      <p:pic>
        <p:nvPicPr>
          <p:cNvPr id="562" name="Straight Connector 39" descr=""/>
          <p:cNvPicPr/>
          <p:nvPr/>
        </p:nvPicPr>
        <p:blipFill>
          <a:blip r:embed="rId15"/>
          <a:stretch/>
        </p:blipFill>
        <p:spPr>
          <a:xfrm>
            <a:off x="4595760" y="4432320"/>
            <a:ext cx="220680" cy="487440"/>
          </a:xfrm>
          <a:prstGeom prst="rect">
            <a:avLst/>
          </a:prstGeom>
          <a:ln w="0">
            <a:noFill/>
          </a:ln>
        </p:spPr>
      </p:pic>
      <p:pic>
        <p:nvPicPr>
          <p:cNvPr id="563" name="Straight Connector 49" descr=""/>
          <p:cNvPicPr/>
          <p:nvPr/>
        </p:nvPicPr>
        <p:blipFill>
          <a:blip r:embed="rId16"/>
          <a:stretch/>
        </p:blipFill>
        <p:spPr>
          <a:xfrm>
            <a:off x="4552920" y="2462040"/>
            <a:ext cx="190440" cy="397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"/>
          <p:cNvPicPr/>
          <p:nvPr/>
        </p:nvPicPr>
        <p:blipFill>
          <a:blip r:embed="rId17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Rectangle 2"/>
          <p:cNvGrpSpPr/>
          <p:nvPr/>
        </p:nvGrpSpPr>
        <p:grpSpPr>
          <a:xfrm>
            <a:off x="1847880" y="189000"/>
            <a:ext cx="5162400" cy="706320"/>
            <a:chOff x="1847880" y="189000"/>
            <a:chExt cx="5162400" cy="706320"/>
          </a:xfrm>
        </p:grpSpPr>
        <p:pic>
          <p:nvPicPr>
            <p:cNvPr id="566" name="Rectangle 2" descr=""/>
            <p:cNvPicPr/>
            <p:nvPr/>
          </p:nvPicPr>
          <p:blipFill>
            <a:blip r:embed="rId1"/>
            <a:stretch/>
          </p:blipFill>
          <p:spPr>
            <a:xfrm>
              <a:off x="1847880" y="189000"/>
              <a:ext cx="51624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1905120" y="228600"/>
              <a:ext cx="50497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Breeding Facilitie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 txBox="1"/>
          <p:nvPr/>
        </p:nvSpPr>
        <p:spPr>
          <a:xfrm>
            <a:off x="1143000" y="106632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500 Acres of land  for R &amp; D (more than 200 acres is taken on lease every year clubbing with marketing activities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More than 30 multi-locational centres for evaluating germplasm and new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Over 200 people (both scientific and skilled assistants) working in different plant breeding program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State of the art breeding support system extending over 40,000 sq fe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400" indent="-186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2"/>
          <a:stretch/>
        </p:blipFill>
        <p:spPr>
          <a:xfrm>
            <a:off x="7696080" y="7632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Rectangle 2"/>
          <p:cNvGrpSpPr/>
          <p:nvPr/>
        </p:nvGrpSpPr>
        <p:grpSpPr>
          <a:xfrm>
            <a:off x="2152800" y="262080"/>
            <a:ext cx="5314680" cy="712800"/>
            <a:chOff x="2152800" y="262080"/>
            <a:chExt cx="5314680" cy="712800"/>
          </a:xfrm>
        </p:grpSpPr>
        <p:pic>
          <p:nvPicPr>
            <p:cNvPr id="571" name="Rectangle 2" descr=""/>
            <p:cNvPicPr/>
            <p:nvPr/>
          </p:nvPicPr>
          <p:blipFill>
            <a:blip r:embed="rId1"/>
            <a:stretch/>
          </p:blipFill>
          <p:spPr>
            <a:xfrm>
              <a:off x="2152800" y="262080"/>
              <a:ext cx="5314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2209680" y="304920"/>
              <a:ext cx="5202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Plant Breeding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137124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eterosis for yield and quality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velopment &amp; Utilization of GMS and CMS technologies for seed produ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ide hybridization  for incorporation of important traits like disease resista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ost Harvest quality traits and nutritive value in vegetables are on prior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alue added traits transfer is the priorit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20000"/>
              </a:lnSpc>
              <a:spcBef>
                <a:spcPts val="1125"/>
              </a:spcBef>
              <a:buClr>
                <a:srgbClr val="1737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20000"/>
              </a:lnSpc>
              <a:spcBef>
                <a:spcPts val="1349"/>
              </a:spcBef>
              <a:buClr>
                <a:srgbClr val="3333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Rectangle 2"/>
          <p:cNvGrpSpPr/>
          <p:nvPr/>
        </p:nvGrpSpPr>
        <p:grpSpPr>
          <a:xfrm>
            <a:off x="2225520" y="268200"/>
            <a:ext cx="5145120" cy="755640"/>
            <a:chOff x="2225520" y="268200"/>
            <a:chExt cx="5145120" cy="755640"/>
          </a:xfrm>
        </p:grpSpPr>
        <p:pic>
          <p:nvPicPr>
            <p:cNvPr id="576" name="Rectangle 2" descr=""/>
            <p:cNvPicPr/>
            <p:nvPr/>
          </p:nvPicPr>
          <p:blipFill>
            <a:blip r:embed="rId1"/>
            <a:stretch/>
          </p:blipFill>
          <p:spPr>
            <a:xfrm>
              <a:off x="2225520" y="268200"/>
              <a:ext cx="51451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2286000" y="304920"/>
              <a:ext cx="50292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  </a:t>
              </a:r>
              <a:r>
                <a:rPr b="1" lang="en-US" sz="2900" spc="-1" strike="noStrike">
                  <a:solidFill>
                    <a:srgbClr val="17375e"/>
                  </a:solidFill>
                  <a:latin typeface="Constantia"/>
                </a:rPr>
                <a:t>Molecular Biology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 txBox="1"/>
          <p:nvPr/>
        </p:nvSpPr>
        <p:spPr>
          <a:xfrm>
            <a:off x="1219320" y="1828800"/>
            <a:ext cx="73152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arker Assisted Selection &amp; development of new markers in Cotton, Tomato, Hot peppers, Padd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rmplasm characterization by genotyping by sequenc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ne Pyramiding using mark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versity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Hybrid Purity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enome wide association mapp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20000"/>
              </a:lnSpc>
              <a:spcBef>
                <a:spcPts val="123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4" descr=""/>
          <p:cNvPicPr/>
          <p:nvPr/>
        </p:nvPicPr>
        <p:blipFill>
          <a:blip r:embed="rId2"/>
          <a:stretch/>
        </p:blipFill>
        <p:spPr>
          <a:xfrm>
            <a:off x="7696080" y="27000"/>
            <a:ext cx="1447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7:07:57Z</dcterms:created>
  <dc:creator>Vaibhav</dc:creator>
  <dc:description/>
  <dc:language>en-US</dc:language>
  <cp:lastModifiedBy>ARKASHIKAR</cp:lastModifiedBy>
  <dcterms:modified xsi:type="dcterms:W3CDTF">2013-05-17T06:08:19Z</dcterms:modified>
  <cp:revision>301</cp:revision>
  <dc:subject/>
  <dc:title>Ankur Seeds           An Introduction</dc:title>
</cp:coreProperties>
</file>