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C758-AF81-4924-80EF-F28094C97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0F0F-E4AD-4CCF-9781-CEF931890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968640" y="8827920"/>
            <a:ext cx="30402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ED04EB-A3CA-42AB-8473-3F5386825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272B-67BB-4127-9449-B94EBC84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390D-4E33-42EF-9787-4ECF49AB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6E95-16CF-4BD5-BAEB-2D288247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A930-269B-49CC-AB96-8059BB89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15FE-5EE3-4262-BDA9-D54CF2F2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2924-01CA-4E22-A3C7-185303B4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85E2-5DEE-40B0-846A-AA0CA80A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AAFA-8907-4549-B664-815C552C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4ACA-D9B3-4F8F-A561-7D686DF1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5F94-FA49-4DF5-9CD6-3FA6C048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CF55-C72A-401B-8C7D-2069497A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F3A2-579F-47E1-8411-1089B81F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FB70-1DE0-48D3-A0B4-DCA3DDC5BD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ibin.gov.in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736560" y="5562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Department of Biotechnology</a:t>
            </a:r>
            <a:br>
              <a:rPr sz="1800"/>
            </a:b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inistry of Science &amp; Technology</a:t>
            </a:r>
            <a:br>
              <a:rPr sz="1800"/>
            </a:b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Govt. of 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"/>
          <p:cNvPicPr/>
          <p:nvPr/>
        </p:nvPicPr>
        <p:blipFill>
          <a:blip r:embed="rId1"/>
          <a:stretch/>
        </p:blipFill>
        <p:spPr>
          <a:xfrm>
            <a:off x="3657600" y="4343400"/>
            <a:ext cx="1143000" cy="10396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3124080" y="327672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Manoj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2104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2104"/>
                </a:solidFill>
                <a:latin typeface="Arial"/>
              </a:rPr>
              <a:t>Scientist-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emblem1"/>
          <p:cNvPicPr/>
          <p:nvPr/>
        </p:nvPicPr>
        <p:blipFill>
          <a:blip r:embed="rId2"/>
          <a:stretch/>
        </p:blipFill>
        <p:spPr>
          <a:xfrm>
            <a:off x="3809880" y="533520"/>
            <a:ext cx="590760" cy="95256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1166040" y="1751040"/>
            <a:ext cx="612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2104"/>
                </a:solidFill>
                <a:latin typeface="Arial"/>
              </a:rPr>
              <a:t>Bioresource Development and 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2104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2104"/>
                </a:solidFill>
                <a:latin typeface="Arial"/>
              </a:rPr>
              <a:t>Energy Bio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alibri"/>
              </a:rPr>
              <a:t>Bioprospecting of Plants and Other Natural Resources 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228600" y="5410080"/>
            <a:ext cx="340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igh value metabolites from plant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Report Icacinaceae"/>
          <p:cNvPicPr/>
          <p:nvPr/>
        </p:nvPicPr>
        <p:blipFill>
          <a:blip r:embed="rId1"/>
          <a:srcRect l="0" t="0" r="0" b="34614"/>
          <a:stretch/>
        </p:blipFill>
        <p:spPr>
          <a:xfrm>
            <a:off x="76320" y="1052640"/>
            <a:ext cx="3803400" cy="4128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4267080" y="1052640"/>
            <a:ext cx="2210040" cy="1576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6705720" y="1052640"/>
            <a:ext cx="1904760" cy="15764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4281480" y="279864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2104"/>
                </a:solidFill>
                <a:latin typeface="Arial"/>
              </a:rPr>
              <a:t>Calophyllum apetalum (~ 2% dw of lea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6705720" y="277812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2104"/>
                </a:solidFill>
                <a:latin typeface="Arial"/>
              </a:rPr>
              <a:t>Gymnopserm (~ 5% dw of lea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4613400" y="3468600"/>
            <a:ext cx="33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Alternate sources of Shikim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4"/>
          <a:stretch/>
        </p:blipFill>
        <p:spPr>
          <a:xfrm>
            <a:off x="4205160" y="4129200"/>
            <a:ext cx="1828800" cy="1628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5"/>
          <a:stretch/>
        </p:blipFill>
        <p:spPr>
          <a:xfrm>
            <a:off x="6270480" y="4122720"/>
            <a:ext cx="1981440" cy="16351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"/>
          <p:cNvSpPr/>
          <p:nvPr/>
        </p:nvSpPr>
        <p:spPr>
          <a:xfrm>
            <a:off x="4114800" y="5867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condary compounds production in lichen species-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Dirinaria applan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533520" y="533520"/>
            <a:ext cx="84582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0240" indent="-660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ome Significant R&amp;D  highlight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lnSpc>
                <a:spcPct val="100000"/>
              </a:lnSpc>
              <a:buClr>
                <a:srgbClr val="8a210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2104"/>
                </a:solidFill>
                <a:latin typeface="Calibri"/>
              </a:rPr>
              <a:t>Four novel compounds isolated from Lichens which showed prom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2104"/>
                </a:solidFill>
                <a:latin typeface="Calibri"/>
              </a:rPr>
              <a:t>             </a:t>
            </a:r>
            <a:r>
              <a:rPr b="1" lang="en-US" sz="2000" spc="-1" strike="noStrike">
                <a:solidFill>
                  <a:srgbClr val="8a2104"/>
                </a:solidFill>
                <a:latin typeface="Calibri"/>
              </a:rPr>
              <a:t>activity for their anti-tuberculosis and anticancer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lnSpc>
                <a:spcPct val="100000"/>
              </a:lnSpc>
              <a:spcBef>
                <a:spcPts val="150"/>
              </a:spcBef>
              <a:buClr>
                <a:srgbClr val="8a21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lnSpc>
                <a:spcPct val="100000"/>
              </a:lnSpc>
              <a:spcBef>
                <a:spcPts val="499"/>
              </a:spcBef>
              <a:buClr>
                <a:srgbClr val="8a21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2104"/>
                </a:solidFill>
                <a:latin typeface="Calibri"/>
              </a:rPr>
              <a:t>Promising species from </a:t>
            </a:r>
            <a:r>
              <a:rPr b="1" i="1" lang="en-US" sz="2000" spc="-1" strike="noStrike">
                <a:solidFill>
                  <a:srgbClr val="8a2104"/>
                </a:solidFill>
                <a:latin typeface="Calibri"/>
              </a:rPr>
              <a:t>Icacinaceae</a:t>
            </a:r>
            <a:r>
              <a:rPr b="1" lang="en-US" sz="2000" spc="-1" strike="noStrike">
                <a:solidFill>
                  <a:srgbClr val="8a2104"/>
                </a:solidFill>
                <a:latin typeface="Calibri"/>
              </a:rPr>
              <a:t> family were screened for the anti-cancer alkaloid, Camptothecin and its derivatives.</a:t>
            </a:r>
            <a:r>
              <a:rPr b="1" i="1" lang="en-US" sz="2000" spc="-1" strike="noStrike">
                <a:solidFill>
                  <a:srgbClr val="8a2104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8a2104"/>
                </a:solidFill>
                <a:latin typeface="Calibri"/>
              </a:rPr>
              <a:t>Two species were found to contain the highest ever reported content of camptothecin (1 to 1.2 %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lnSpc>
                <a:spcPct val="100000"/>
              </a:lnSpc>
              <a:spcBef>
                <a:spcPts val="499"/>
              </a:spcBef>
              <a:buClr>
                <a:srgbClr val="8a21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2104"/>
                </a:solidFill>
                <a:latin typeface="Calibri"/>
              </a:rPr>
              <a:t>Alternate sources of shikimic acid from plants were ident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lnSpc>
                <a:spcPct val="100000"/>
              </a:lnSpc>
              <a:spcBef>
                <a:spcPts val="499"/>
              </a:spcBef>
              <a:buClr>
                <a:srgbClr val="8a21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a2104"/>
                </a:solidFill>
                <a:latin typeface="Times New Roman"/>
                <a:ea typeface="Times New Roman"/>
              </a:rPr>
              <a:t>Antimicrobial Peptides from wasp, bees (</a:t>
            </a:r>
            <a:r>
              <a:rPr b="1" i="1" lang="en-GB" sz="2000" spc="-1" strike="noStrike">
                <a:solidFill>
                  <a:srgbClr val="8a2104"/>
                </a:solidFill>
                <a:latin typeface="Times New Roman"/>
                <a:ea typeface="Times New Roman"/>
              </a:rPr>
              <a:t>Apis dorsata, Apis cerana </a:t>
            </a:r>
            <a:r>
              <a:rPr b="1" lang="en-GB" sz="2000" spc="-1" strike="noStrike">
                <a:solidFill>
                  <a:srgbClr val="8a2104"/>
                </a:solidFill>
                <a:latin typeface="Times New Roman"/>
                <a:ea typeface="Times New Roman"/>
              </a:rPr>
              <a:t>&amp; </a:t>
            </a:r>
            <a:r>
              <a:rPr b="1" i="1" lang="en-GB" sz="2000" spc="-1" strike="noStrike">
                <a:solidFill>
                  <a:srgbClr val="8a2104"/>
                </a:solidFill>
                <a:latin typeface="Times New Roman"/>
                <a:ea typeface="Times New Roman"/>
              </a:rPr>
              <a:t>Apis florea</a:t>
            </a:r>
            <a:r>
              <a:rPr b="1" lang="en-GB" sz="2000" spc="-1" strike="noStrike">
                <a:solidFill>
                  <a:srgbClr val="8a2104"/>
                </a:solidFill>
                <a:latin typeface="Times New Roman"/>
                <a:ea typeface="Times New Roman"/>
              </a:rPr>
              <a:t>)  identified and characterise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lnSpc>
                <a:spcPct val="100000"/>
              </a:lnSpc>
              <a:spcBef>
                <a:spcPts val="499"/>
              </a:spcBef>
              <a:buClr>
                <a:srgbClr val="8a21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2104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2104"/>
                </a:solidFill>
                <a:latin typeface="Calibri"/>
              </a:rPr>
              <a:t>Bio-resource Inventory and Biodiversity Characterization</a:t>
            </a:r>
            <a:br>
              <a:rPr sz="40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Picture2"/>
          <p:cNvPicPr/>
          <p:nvPr/>
        </p:nvPicPr>
        <p:blipFill>
          <a:blip r:embed="rId1"/>
          <a:stretch/>
        </p:blipFill>
        <p:spPr>
          <a:xfrm>
            <a:off x="2971800" y="1295280"/>
            <a:ext cx="2590920" cy="3581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5715000" y="10666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antitative Assessment and Mapping of Biodiversity at ground lev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6537240" y="217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6095880" y="2209680"/>
            <a:ext cx="274320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Western Ghats – 100%,  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3230 grids completed; 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Data on 2600 spec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Eastern Ghats – 100%, 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2652 grids completed; 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Data on 2273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North-East – 50%, 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1200 grids completed; 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data on 2600 spec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A&amp;NB Islands- 52%, 527 grids completed; 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data on 2352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152280" y="914400"/>
            <a:ext cx="268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aracterization at Landscape Level using Satell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mote Sen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0" y="2057400"/>
            <a:ext cx="2666880" cy="33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pping and database prepa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th-eastern Ind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stern Himalaya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stern Ghats region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aman and Nicobar Isl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 India, Eastern Gh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can Peninsu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thern Plai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R Delhi, Uttar Pradesh, Bihar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rth-West India, Jammu &amp; Kashmir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762120" y="5826240"/>
            <a:ext cx="6384960" cy="992880"/>
          </a:xfrm>
          <a:prstGeom prst="rect">
            <a:avLst/>
          </a:prstGeom>
          <a:solidFill>
            <a:srgbClr val="ccec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  <a:ea typeface="Arial"/>
              </a:rPr>
              <a:t>Total Geographical Area - 328.0 M h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  <a:ea typeface="Arial"/>
              </a:rPr>
              <a:t>Forest cover – 6.78 M ha (100% of the country’s forest co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82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500" spc="-1" strike="noStrike">
                <a:solidFill>
                  <a:srgbClr val="006600"/>
                </a:solidFill>
                <a:latin typeface="Calibri"/>
              </a:rPr>
              <a:t>Indian Bioresource Information Network (IBIN)</a:t>
            </a:r>
            <a:br>
              <a:rPr sz="2500"/>
            </a:br>
            <a:br>
              <a:rPr sz="800"/>
            </a:br>
            <a:r>
              <a:rPr b="1" lang="en-US" sz="1600" spc="-1" strike="noStrike">
                <a:solidFill>
                  <a:srgbClr val="0000cc"/>
                </a:solidFill>
                <a:latin typeface="Calibri"/>
              </a:rPr>
              <a:t>The IBIN portal developed as  a single window gateway to access distributed bioresource database available in the country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35"/>
          <p:cNvSpPr/>
          <p:nvPr/>
        </p:nvSpPr>
        <p:spPr>
          <a:xfrm>
            <a:off x="152280" y="1447920"/>
            <a:ext cx="81536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ibin_launch.png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35002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41" name="Rectangle 1"/>
          <p:cNvSpPr/>
          <p:nvPr/>
        </p:nvSpPr>
        <p:spPr>
          <a:xfrm>
            <a:off x="4751280" y="4694400"/>
            <a:ext cx="401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ublic domain link: www.ibin.gov.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724280" y="1395360"/>
            <a:ext cx="41911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Jeeva Sampada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rgest Interactive data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on 39,000 species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7800" indent="-177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s, animals, marine organisms and microb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than 54,00,000 rec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s, distribution maps  us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152280" y="5132520"/>
            <a:ext cx="854568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2104"/>
                </a:solidFill>
                <a:latin typeface="Calibri"/>
                <a:ea typeface="Times New Roman"/>
              </a:rPr>
              <a:t>Bioresource Information Cen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a21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2104"/>
                </a:solidFill>
                <a:latin typeface="Calibri"/>
                <a:ea typeface="Times New Roman"/>
              </a:rPr>
              <a:t>Ashoka Trust for Reasearch in Ecology and the Environment, Bangalore</a:t>
            </a:r>
            <a:r>
              <a:rPr b="1" lang="en-IN" sz="1600" spc="-1" strike="noStrike">
                <a:solidFill>
                  <a:srgbClr val="8a2104"/>
                </a:solidFill>
                <a:latin typeface="Calibri"/>
                <a:ea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a21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2104"/>
                </a:solidFill>
                <a:latin typeface="Calibri"/>
                <a:ea typeface="Times New Roman"/>
              </a:rPr>
              <a:t>North Eastern Hill University, Shillong</a:t>
            </a:r>
            <a:r>
              <a:rPr b="1" lang="en-IN" sz="1600" spc="-1" strike="noStrike">
                <a:solidFill>
                  <a:srgbClr val="8a2104"/>
                </a:solidFill>
                <a:latin typeface="Calibri"/>
                <a:ea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a21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2104"/>
                </a:solidFill>
                <a:latin typeface="Calibri"/>
              </a:rPr>
              <a:t>Foundation for Revitalisation of Local Health Traditions </a:t>
            </a:r>
            <a:r>
              <a:rPr b="1" lang="en-US" sz="1600" spc="-1" strike="noStrike">
                <a:solidFill>
                  <a:srgbClr val="8a2104"/>
                </a:solidFill>
                <a:latin typeface="Calibri"/>
                <a:ea typeface="Times New Roman"/>
              </a:rPr>
              <a:t>, Bangalore</a:t>
            </a:r>
            <a:r>
              <a:rPr b="1" lang="en-IN" sz="1600" spc="-1" strike="noStrike">
                <a:solidFill>
                  <a:srgbClr val="8a2104"/>
                </a:solidFill>
                <a:latin typeface="Calibri"/>
                <a:ea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a21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2104"/>
                </a:solidFill>
                <a:latin typeface="Calibri"/>
                <a:ea typeface="Times New Roman"/>
              </a:rPr>
              <a:t>Calcutta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a21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8a2104"/>
                </a:solidFill>
                <a:latin typeface="Calibri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8a2104"/>
                </a:solidFill>
                <a:latin typeface="Calibri"/>
                <a:ea typeface="Times New Roman"/>
              </a:rPr>
              <a:t>Institute of Himalayan Bioresource Biotechnology, Palamap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4724280" y="3772080"/>
            <a:ext cx="44197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Coordinating Centers of the IBIN Por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Arial"/>
                <a:ea typeface="Times New Roman"/>
              </a:rPr>
              <a:t>University of Agricultural Sciences, Bangalore</a:t>
            </a:r>
            <a:r>
              <a:rPr b="1" lang="en-IN" sz="1400" spc="-1" strike="noStrike">
                <a:solidFill>
                  <a:srgbClr val="7030a0"/>
                </a:solidFill>
                <a:latin typeface="Arial"/>
                <a:ea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7030a0"/>
                </a:solidFill>
                <a:latin typeface="Arial"/>
                <a:ea typeface="Times New Roman"/>
              </a:rPr>
              <a:t>Indian Institute of Remote Sensing, Dehrad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2104"/>
                </a:solidFill>
                <a:latin typeface="Calibri"/>
              </a:rPr>
              <a:t>Future Prospects with Sp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60520" y="14986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reas which can be considered for future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57200" y="2209680"/>
            <a:ext cx="822960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8a21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2104"/>
                </a:solidFill>
                <a:latin typeface="Arial"/>
              </a:rPr>
              <a:t>Joint call for proposal for utilization of plants, microbes and other bioresources for the development of value added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8a21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210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a2104"/>
                </a:solidFill>
                <a:latin typeface="Arial"/>
              </a:rPr>
              <a:t>Collaboration in the area of Biofuels and Bio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8a21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8a21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2104"/>
                </a:solidFill>
                <a:latin typeface="Arial"/>
              </a:rPr>
              <a:t>Capacity Building programmes i.e. Overseas Fellowships for young researchers and International 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8a21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tting up of a Joint Centre for  Drug Discovery and Product Development from Natur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87600" y="152280"/>
            <a:ext cx="7698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2104"/>
                </a:solidFill>
                <a:latin typeface="Arial"/>
              </a:rPr>
              <a:t>Brief Overview on th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Arial"/>
              </a:rPr>
              <a:t>(Energy Biosciences &amp; Bioprospecting: Sustai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53735"/>
                </a:solidFill>
                <a:latin typeface="Arial"/>
              </a:rPr>
              <a:t>Utilization of Natural Resour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95440" y="4114800"/>
            <a:ext cx="8839080" cy="30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aracterization and Digitized Invento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ioprospecting and produc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onservation and Utilization of Bio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ioresource Developmen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apacity Building Programmes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374760" y="142416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DBT programmes on Energy Biosciences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595440" y="1905120"/>
            <a:ext cx="8324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Development of commercially viable technology for cellulosic  ethanol  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Development of next generation biofuel-Biobutanol, Bio-hydrogen, Green Diesel, Biomethyl furan, Bio-dimethyl 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579960" y="3691080"/>
            <a:ext cx="477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DBT programmess on Bioprospec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533520" y="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National Programme on Energy Bio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1"/>
          <p:cNvGrpSpPr/>
          <p:nvPr/>
        </p:nvGrpSpPr>
        <p:grpSpPr>
          <a:xfrm>
            <a:off x="609480" y="457200"/>
            <a:ext cx="7696440" cy="6183720"/>
            <a:chOff x="609480" y="457200"/>
            <a:chExt cx="7696440" cy="6183720"/>
          </a:xfrm>
        </p:grpSpPr>
        <p:sp>
          <p:nvSpPr>
            <p:cNvPr id="60" name="Oval 10"/>
            <p:cNvSpPr/>
            <p:nvPr/>
          </p:nvSpPr>
          <p:spPr>
            <a:xfrm>
              <a:off x="5181480" y="3657600"/>
              <a:ext cx="2743200" cy="27432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5000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0"/>
            <p:cNvSpPr/>
            <p:nvPr/>
          </p:nvSpPr>
          <p:spPr>
            <a:xfrm>
              <a:off x="685800" y="1828800"/>
              <a:ext cx="2743200" cy="27432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5000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0"/>
            <p:cNvSpPr/>
            <p:nvPr/>
          </p:nvSpPr>
          <p:spPr>
            <a:xfrm>
              <a:off x="2971800" y="457200"/>
              <a:ext cx="2743200" cy="27432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5000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0"/>
            <p:cNvSpPr/>
            <p:nvPr/>
          </p:nvSpPr>
          <p:spPr>
            <a:xfrm>
              <a:off x="5562720" y="1066680"/>
              <a:ext cx="2743200" cy="27432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5000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0"/>
            <p:cNvSpPr/>
            <p:nvPr/>
          </p:nvSpPr>
          <p:spPr>
            <a:xfrm>
              <a:off x="2438280" y="3733920"/>
              <a:ext cx="2743200" cy="27432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5000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0"/>
            <p:cNvSpPr/>
            <p:nvPr/>
          </p:nvSpPr>
          <p:spPr>
            <a:xfrm>
              <a:off x="3276720" y="2057400"/>
              <a:ext cx="2743200" cy="2743200"/>
            </a:xfrm>
            <a:prstGeom prst="ellipse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3505320" y="7462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Bioethan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9"/>
            <p:cNvSpPr/>
            <p:nvPr/>
          </p:nvSpPr>
          <p:spPr>
            <a:xfrm>
              <a:off x="5943600" y="14320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Algal Biofu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0"/>
            <p:cNvSpPr/>
            <p:nvPr/>
          </p:nvSpPr>
          <p:spPr>
            <a:xfrm>
              <a:off x="5638680" y="432756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Biodies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3657600" y="2851200"/>
              <a:ext cx="213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Energy Bioscience Cen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2"/>
            <p:cNvSpPr/>
            <p:nvPr/>
          </p:nvSpPr>
          <p:spPr>
            <a:xfrm>
              <a:off x="609480" y="2575080"/>
              <a:ext cx="266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Capacity Buil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3"/>
            <p:cNvSpPr/>
            <p:nvPr/>
          </p:nvSpPr>
          <p:spPr>
            <a:xfrm>
              <a:off x="3048120" y="1143000"/>
              <a:ext cx="2743200" cy="101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spcBef>
                  <a:spcPts val="751"/>
                </a:spcBef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Re-engineered feed stoc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spcBef>
                  <a:spcPts val="751"/>
                </a:spcBef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Re-engineered microorganis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spcBef>
                  <a:spcPts val="751"/>
                </a:spcBef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Process optimization </a:t>
              </a:r>
              <a:br>
                <a:rPr sz="1200"/>
              </a:b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4"/>
            <p:cNvSpPr/>
            <p:nvPr/>
          </p:nvSpPr>
          <p:spPr>
            <a:xfrm>
              <a:off x="5715000" y="1905120"/>
              <a:ext cx="2590920" cy="101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spcBef>
                  <a:spcPts val="751"/>
                </a:spcBef>
                <a:buClr>
                  <a:srgbClr val="33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Collection and characteriz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spcBef>
                  <a:spcPts val="751"/>
                </a:spcBef>
                <a:buClr>
                  <a:srgbClr val="33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Establishment of repositori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spcBef>
                  <a:spcPts val="751"/>
                </a:spcBef>
                <a:buClr>
                  <a:srgbClr val="33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Development of produc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5"/>
            <p:cNvSpPr/>
            <p:nvPr/>
          </p:nvSpPr>
          <p:spPr>
            <a:xfrm>
              <a:off x="5562720" y="4800600"/>
              <a:ext cx="2438280" cy="101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spcBef>
                  <a:spcPts val="751"/>
                </a:spcBef>
                <a:buClr>
                  <a:srgbClr val="33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Quality planting mate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spcBef>
                  <a:spcPts val="751"/>
                </a:spcBef>
                <a:buClr>
                  <a:srgbClr val="33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Improved feed sto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spcBef>
                  <a:spcPts val="751"/>
                </a:spcBef>
                <a:buClr>
                  <a:srgbClr val="33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Process optimization </a:t>
              </a:r>
              <a:br>
                <a:rPr sz="1200"/>
              </a:b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2971800" y="5530680"/>
              <a:ext cx="1905120" cy="11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spcBef>
                  <a:spcPts val="751"/>
                </a:spcBef>
                <a:buClr>
                  <a:srgbClr val="33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Biohydrog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spcBef>
                  <a:spcPts val="751"/>
                </a:spcBef>
                <a:buClr>
                  <a:srgbClr val="33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Biobutan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spcBef>
                  <a:spcPts val="751"/>
                </a:spcBef>
                <a:buClr>
                  <a:srgbClr val="33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Synthetic biolo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spcBef>
                  <a:spcPts val="751"/>
                </a:spcBef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9"/>
            <p:cNvSpPr/>
            <p:nvPr/>
          </p:nvSpPr>
          <p:spPr>
            <a:xfrm>
              <a:off x="762120" y="3048120"/>
              <a:ext cx="24382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spcBef>
                  <a:spcPts val="751"/>
                </a:spcBef>
                <a:buClr>
                  <a:srgbClr val="33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Energy Bioscience Chai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spcBef>
                  <a:spcPts val="751"/>
                </a:spcBef>
                <a:buClr>
                  <a:srgbClr val="3366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33"/>
                  </a:solidFill>
                  <a:latin typeface="Arial"/>
                </a:rPr>
                <a:t>Energy Bioscience Overseas Fellowshi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0"/>
            <p:cNvSpPr/>
            <p:nvPr/>
          </p:nvSpPr>
          <p:spPr>
            <a:xfrm>
              <a:off x="2057400" y="4861080"/>
              <a:ext cx="3429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Next gener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Biofue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6553080" y="6477120"/>
            <a:ext cx="2590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F49B-D8E3-4B73-8705-02E400AB2FFE}" type="slidenum"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2160" y="380520"/>
            <a:ext cx="7313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ofuel Genera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80880" y="5715000"/>
            <a:ext cx="1828800" cy="6426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First Generation</a:t>
            </a: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676520" y="3657600"/>
            <a:ext cx="1752480" cy="673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Second  Generation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971800" y="1463760"/>
            <a:ext cx="1905120" cy="6894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Next</a:t>
            </a:r>
            <a:br>
              <a:rPr sz="1800"/>
            </a:b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Generation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 flipV="1">
            <a:off x="1367280" y="4497480"/>
            <a:ext cx="926280" cy="1209600"/>
          </a:xfrm>
          <a:prstGeom prst="line">
            <a:avLst/>
          </a:prstGeom>
          <a:ln w="7632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2362320" y="5605560"/>
            <a:ext cx="6400800" cy="12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Biodiesel from Jatrop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Bioethanol from Molas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i="1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Established technology, already commercializ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505320" y="3608280"/>
            <a:ext cx="49528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9760" indent="-23976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Lignocellulosic ethan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spcBef>
                <a:spcPts val="10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lgal Biofu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1600" spc="-1" strike="noStrike">
                <a:solidFill>
                  <a:srgbClr val="003300"/>
                </a:solidFill>
                <a:latin typeface="Arial"/>
              </a:rPr>
              <a:t>Many at Pilot plant or demonstration stage</a:t>
            </a:r>
            <a:r>
              <a:rPr b="1" i="1" lang="en-IN" sz="16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4952880" y="1351080"/>
            <a:ext cx="350532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006600"/>
                </a:solidFill>
                <a:latin typeface="Arial"/>
              </a:rPr>
              <a:t>Biobutanol</a:t>
            </a:r>
            <a:r>
              <a:rPr b="0" lang="en-IN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006600"/>
                </a:solidFill>
                <a:latin typeface="Arial"/>
              </a:rPr>
              <a:t>Bio-hydro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006600"/>
                </a:solidFill>
                <a:latin typeface="Arial"/>
              </a:rPr>
              <a:t>Green Dies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006600"/>
                </a:solidFill>
                <a:latin typeface="Arial"/>
              </a:rPr>
              <a:t>Biomethyl fur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006600"/>
                </a:solidFill>
                <a:latin typeface="Arial"/>
              </a:rPr>
              <a:t>Bio-dimethyl e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   </a:t>
            </a:r>
            <a:r>
              <a:rPr b="1" i="1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Cutting edge technologies – </a:t>
            </a:r>
            <a:br>
              <a:rPr sz="1600"/>
            </a:br>
            <a:r>
              <a:rPr b="1" i="1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require R&amp;D intervention</a:t>
            </a:r>
            <a:r>
              <a:rPr b="1" i="1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2"/>
          <p:cNvSpPr/>
          <p:nvPr/>
        </p:nvSpPr>
        <p:spPr>
          <a:xfrm flipV="1">
            <a:off x="2831040" y="2370600"/>
            <a:ext cx="976680" cy="1287720"/>
          </a:xfrm>
          <a:prstGeom prst="line">
            <a:avLst/>
          </a:prstGeom>
          <a:ln w="7632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0AA7-D6A1-42B9-84AD-8C9E3E5ACD5A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6705720" y="6172200"/>
            <a:ext cx="2361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4C69-92EB-4012-A947-62B200B52FC7}" type="slidenum">
              <a:rPr b="0" lang="en-US" sz="1200" spc="-1" strike="noStrike">
                <a:solidFill>
                  <a:srgbClr val="99cc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80880" y="380880"/>
            <a:ext cx="8382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DBT- ICT Centre for Energy Bio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India’s first National Bioenergy Researc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533520" y="147960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 Narrow"/>
              </a:rPr>
              <a:t>Multidisciplinary Centre with</a:t>
            </a:r>
            <a:r>
              <a:rPr b="1" lang="en-US" sz="1800" spc="-1" strike="noStrike">
                <a:solidFill>
                  <a:srgbClr val="c00000"/>
                </a:solidFill>
                <a:latin typeface="Arial Narrow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3300"/>
                </a:solidFill>
                <a:latin typeface="Arial Narrow"/>
              </a:rPr>
              <a:t>state-of-the-art facility for high tech R&amp;D in </a:t>
            </a:r>
            <a:r>
              <a:rPr b="1" i="1" lang="en-US" sz="1800" spc="-1" strike="noStrike">
                <a:solidFill>
                  <a:srgbClr val="003300"/>
                </a:solidFill>
                <a:latin typeface="Arial Narrow"/>
              </a:rPr>
              <a:t>enzyme technology; fermentation and bioprocess technology </a:t>
            </a:r>
            <a:r>
              <a:rPr b="1" lang="en-US" sz="1800" spc="-1" strike="noStrike">
                <a:solidFill>
                  <a:srgbClr val="003300"/>
                </a:solidFill>
                <a:latin typeface="Arial Narrow"/>
              </a:rPr>
              <a:t> </a:t>
            </a:r>
            <a:r>
              <a:rPr b="1" i="1" lang="en-US" sz="1800" spc="-1" strike="noStrike">
                <a:solidFill>
                  <a:srgbClr val="003300"/>
                </a:solidFill>
                <a:latin typeface="Arial Narrow"/>
              </a:rPr>
              <a:t>microbial genomics, proteomics, metabolo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CEB-3.jpg"/>
          <p:cNvPicPr/>
          <p:nvPr/>
        </p:nvPicPr>
        <p:blipFill>
          <a:blip r:embed="rId1"/>
          <a:stretch/>
        </p:blipFill>
        <p:spPr>
          <a:xfrm>
            <a:off x="4648320" y="1371600"/>
            <a:ext cx="4221000" cy="52578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533520" y="3303720"/>
            <a:ext cx="396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 Narrow"/>
              </a:rPr>
              <a:t>Achievements in first year of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 Narrow"/>
              </a:rPr>
              <a:t>Competitive Cellulosic Ethanol technology developed with rice/wheat straw; bagasse; and cotton s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 Narrow"/>
              </a:rPr>
              <a:t>First Pilot Plant based on ICT Technology for 10 ton biomass/day being put up by India Glycols Ltd. at Kashipur, Uttarak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28600" y="-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BT-IOC Centre for Advanced Bio-Energy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Indian Oil Corporation, R&amp;D Centre , Faridab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353040" cy="2233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95" name="Rectangle 6"/>
          <p:cNvSpPr/>
          <p:nvPr/>
        </p:nvSpPr>
        <p:spPr>
          <a:xfrm>
            <a:off x="152280" y="1972080"/>
            <a:ext cx="525780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a2104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2104"/>
                </a:solidFill>
                <a:latin typeface="Arial"/>
              </a:rPr>
              <a:t>To conduct a multi-disciplinary bioenergy research involving biology,    chemical and material science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a2104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a2104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2104"/>
                </a:solidFill>
                <a:latin typeface="Arial"/>
              </a:rPr>
              <a:t>To provide a platform for integrating research activities pursued in several areas related to biofuels by various instit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a2104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a2104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2104"/>
                </a:solidFill>
                <a:latin typeface="Arial"/>
              </a:rPr>
              <a:t>Development of “institutional capability” to address the bioenergy need of nation based on “science -enterprise model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a2104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a2104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2104"/>
                </a:solidFill>
                <a:latin typeface="Arial"/>
              </a:rPr>
              <a:t>Provide National capability of pilot level scale-up of developed technolog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5410080" y="4419720"/>
            <a:ext cx="361980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Lignocellulosic based bio-fu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Synthetic 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Novel biotechnological method for CO2 mit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Life cycle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3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2104"/>
                </a:solidFill>
                <a:latin typeface="Franklin Gothic Medium"/>
              </a:rPr>
              <a:t>DBT-ICGEB Centre for Advanced Bioenergy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18"/>
          <p:cNvSpPr/>
          <p:nvPr/>
        </p:nvSpPr>
        <p:spPr>
          <a:xfrm>
            <a:off x="533520" y="988920"/>
            <a:ext cx="822960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ontent Placeholder 3" descr=""/>
          <p:cNvPicPr/>
          <p:nvPr/>
        </p:nvPicPr>
        <p:blipFill>
          <a:blip r:embed="rId1"/>
          <a:stretch/>
        </p:blipFill>
        <p:spPr>
          <a:xfrm>
            <a:off x="268200" y="1255680"/>
            <a:ext cx="4413240" cy="3925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5114160" y="170820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esearch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4800600" y="2209680"/>
            <a:ext cx="4114800" cy="40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199"/>
              </a:spcAft>
              <a:buClr>
                <a:srgbClr val="8a21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2104"/>
                </a:solidFill>
                <a:latin typeface="Arial"/>
                <a:ea typeface="Arial"/>
              </a:rPr>
              <a:t>Genomic and metagenomic approaches for identifying novel cellulolytic enzy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8a21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2104"/>
                </a:solidFill>
                <a:latin typeface="Arial"/>
                <a:ea typeface="Arial"/>
              </a:rPr>
              <a:t>Engineering microbes for direct conversion of biomass into biofu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8a21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2104"/>
                </a:solidFill>
                <a:latin typeface="Arial"/>
                <a:ea typeface="Arial"/>
              </a:rPr>
              <a:t>Engineering microbe for production of higher value advance biofuel molec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8a21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2104"/>
                </a:solidFill>
                <a:latin typeface="Arial"/>
                <a:ea typeface="Arial"/>
              </a:rPr>
              <a:t>Engineering algae for higher lipid and biomass y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199"/>
              </a:spcAft>
              <a:buClr>
                <a:srgbClr val="8a21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2104"/>
                </a:solidFill>
                <a:latin typeface="Arial"/>
                <a:ea typeface="Arial"/>
              </a:rPr>
              <a:t>Application of System biology to produce higher alcohols and alk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Mission Programme on Microbial Prospecting: Drugs from Microb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6240" y="1294920"/>
            <a:ext cx="7848360" cy="46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73200" y="1676520"/>
            <a:ext cx="4057560" cy="2438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873000" y="1828800"/>
            <a:ext cx="3657600" cy="22096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6"/>
          <p:cNvSpPr/>
          <p:nvPr/>
        </p:nvSpPr>
        <p:spPr>
          <a:xfrm>
            <a:off x="5791320" y="3276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029200" y="1676520"/>
          <a:ext cx="3733920" cy="2387520"/>
        </p:xfrm>
        <a:graphic>
          <a:graphicData uri="http://schemas.openxmlformats.org/drawingml/2006/table">
            <a:tbl>
              <a:tblPr/>
              <a:tblGrid>
                <a:gridCol w="2193840"/>
                <a:gridCol w="1540080"/>
              </a:tblGrid>
              <a:tr h="53316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o. of Microbes collected- ˜  2,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9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o of 3* hits- 16,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Anti-inf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52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Anti-canc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5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Anti-diabe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66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Anti-inflam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36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Box 15"/>
          <p:cNvSpPr/>
          <p:nvPr/>
        </p:nvSpPr>
        <p:spPr>
          <a:xfrm>
            <a:off x="325440" y="4267080"/>
            <a:ext cx="868680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Chemical characterization of selected hits for bio-a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Present Statu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1147 extracts have been prepa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62 extracts are selected based on chemical analysis for Complete characte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Identification of 17 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6"/>
          <p:cNvSpPr/>
          <p:nvPr/>
        </p:nvSpPr>
        <p:spPr>
          <a:xfrm>
            <a:off x="790560" y="1662120"/>
            <a:ext cx="54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006699"/>
                </a:solidFill>
                <a:latin typeface="Calibri"/>
              </a:rPr>
              <a:t>Recognized as an International Depository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838080" y="129528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Successfully preserved 250,000 bacterial cultur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803160" y="2133720"/>
            <a:ext cx="729324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DA service operations star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eceived 121 microbial cultures (88 bacterial and 33 fungal) as general depo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7 cultures deposited as patent deposits under the Budapest Trea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06280" y="48211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8a21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2104"/>
                </a:solidFill>
                <a:latin typeface="Arial"/>
                <a:ea typeface="Arial"/>
              </a:rPr>
              <a:t>A Microbial Repository was  established at North-Eastern Region of India at IBSD, Imph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0" y="2649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Conservation of Bioresources: Establishment of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226080" y="844560"/>
            <a:ext cx="86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Country’s largest Microbial Culture Collection Centre Set Up at NCCS, Pune</a:t>
            </a:r>
            <a:br>
              <a:rPr sz="1800"/>
            </a:b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228600" y="56386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Three Algal Repositories were established for the algae collection at IBSB, Imphal, Bharathidasan University, Tiruchirappalli and CSIR- Institute of Minerals and Materials Technology, Bhuvanes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206280" y="399744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9537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Arial"/>
              </a:rPr>
              <a:t>Microbial Type Culture Collection facility at IMTECH,  Chandigarh </a:t>
            </a:r>
            <a:r>
              <a:rPr b="0" lang="en-US" sz="1800" spc="-1" strike="noStrike">
                <a:solidFill>
                  <a:srgbClr val="953735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953735"/>
                </a:solidFill>
                <a:latin typeface="Arial"/>
              </a:rPr>
              <a:t>Recognized as International Depository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1242360" y="3409920"/>
            <a:ext cx="62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Public domain link:-</a:t>
            </a:r>
            <a:r>
              <a:rPr b="1" i="1" lang="en-US" sz="1800" spc="-1" strike="noStrike">
                <a:solidFill>
                  <a:srgbClr val="0070c0"/>
                </a:solidFill>
                <a:latin typeface="Arial"/>
              </a:rPr>
              <a:t>www.nccs.res.in/mcc/index.html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anoj modi</dc:creator>
  <dc:description/>
  <dc:language>en-US</dc:language>
  <cp:lastModifiedBy>manoj modi</cp:lastModifiedBy>
  <cp:lastPrinted>2013-05-17T09:50:22Z</cp:lastPrinted>
  <dcterms:modified xsi:type="dcterms:W3CDTF">2013-05-17T11:19:20Z</dcterms:modified>
  <cp:revision>82</cp:revision>
  <dc:subject/>
  <dc:title> National Bioresource Development Board  </dc:title>
</cp:coreProperties>
</file>