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5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9.jpeg" ContentType="image/jpeg"/>
  <Override PartName="/ppt/media/image4.jpeg" ContentType="image/jpeg"/>
  <Override PartName="/ppt/media/image2.png" ContentType="image/png"/>
  <Override PartName="/ppt/embeddings/oleObject12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3A0-0595-4568-8F78-44DCCE9E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D69-A713-42F9-AE66-558ACA16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BF6E-A3A5-4383-B5D7-FD7A8312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FB7-36F5-45D7-B049-EE6446EB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0886-7B5C-4792-B487-7A541B5B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311-C32F-4CED-B605-F0DA442E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6249-AC8E-4E2D-83C7-5D4A5122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B7E5-4F03-4080-A8E9-63E245D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9CF-B9B5-4D2A-9B03-155AD40D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A235-5C6E-41C0-B6AC-BFD2434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77F2-0848-438F-BAB8-33AF077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376-9C5E-4135-9970-4BDEA22F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CEA-3DA5-493A-9759-5675145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BC59-CA27-4BAF-A5F2-3627F3B2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E304-5C63-4E4E-8455-A12D3D7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643-4948-4632-92D3-2BC298E7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21B0-1A83-492F-8F25-FE4F00E7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37C4-7D95-4287-8A8F-DA6F089E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C596-F0EF-4281-803E-C28BA424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EF46-59D1-4ED2-8A22-32AF5ECB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96ED-4096-4346-9EB5-032364A3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CA76-7107-4A44-9025-5D64ACF1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226-54A2-4622-8946-3284AFA6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A796-DC87-41A3-89B3-30F058E0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9F7C8-4345-411A-8B32-4C74A920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D804-F513-46F0-85A9-1DCBC20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5C25-26AC-491A-A387-DC41B5B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A06C-8815-44F7-AB95-95E7F388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BCF7-FDE4-4EAB-8B84-12231DC5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14D6-1C9D-42ED-AA45-829DCC45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0700-0A77-4645-8CEF-3F467F36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4A3E-0967-4963-AE39-FE3401C4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98FB2-8ACE-44E5-AE09-0D496ECF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F39-F620-4729-B88F-AE37E104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A677-0EEF-43D2-8682-D4C8930E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C2215-F9E1-4C58-BE29-E6B6031F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56822-AAF7-4D03-AE2C-EF27E0F7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E89E-6D52-457C-BE10-B42BCDCD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3AAD1-BCD6-4A58-8EEB-FEAC932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606C-9406-4A20-B268-ED8025E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D8AE-B927-41A3-A605-DEBDA48A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7AF14-4378-4284-819F-A761501E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2A83-A260-46B7-8D63-52FC93FB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81621-6412-4801-B0D9-F473640D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819-00C8-480C-B270-FB584578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B384-15B9-4F49-8168-2CEC731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AC215-3D76-4CF0-8A31-7BEC3311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77C9-287C-4011-9E9B-9B426551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9D2A5-B867-418E-998A-14A1BB13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8716-81BD-4777-AFCB-87260DE7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9ACF-AE21-4741-98C1-6DB824EF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BDAB9-6A66-4288-A0F0-2473E9E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A560-FC94-4F20-A091-5AA9200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DD3A-BEB1-4679-93C6-EB679109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0C83C-DEEA-482F-89F0-162E11C6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C03-4060-486F-9A2B-21F7656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16B37-D344-410E-86C1-57471ED9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E170-920F-4EF2-AA4E-5B1FFEE2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F05A-1DFF-4F67-860B-5401546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F3FA-ED55-4AAE-8540-306DE1C7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F4843-6C9E-45F2-A44F-1FACACC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C2CF-3AB6-494F-B075-B324965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9087-31E6-48B1-88BC-C502C726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D6C09-3DC7-41A5-B17C-0A6DD74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6E59-21D7-4FCB-B152-63672873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10D77-0F0F-4292-8811-59E8E1C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D64-4B6A-4ECC-835D-55BBCD5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A003-8D26-4DC0-B00C-1886EE38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D65C9-445B-4219-856B-DE7BD541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7F28-79F6-46FB-824B-D43637A1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EAF8-6FC0-466E-A2DF-D8AB70A1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828B-FEFC-4DEE-BB5D-6015FDE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0B72B-357A-4FAF-9CFF-80224759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83CD-8942-43E5-B5AC-AEFCE597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B74D2-A92C-4B7C-B173-04947FD4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D8866-7BC4-4FE9-AF82-487242E1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3D49-26E2-422F-895F-2AE68DD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2C2-029D-4811-BC22-AEED7F5C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1B31C-6AFA-460B-8FF5-A4E1560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0565-1596-45EC-9B85-EC07EEA0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4A49F-7940-4AAF-8A81-5D953EE8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F7AF-9495-44E3-911C-82D5D69B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1AC99-7B88-4219-97DE-644C2857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854-381B-44AD-8B51-62A5DE8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BDDA-A5D9-44D2-93BD-F215AA3BCFC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EA29-23E4-4DFD-8E3A-714615773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7504-48D2-45D3-9229-F89D264630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4437-694E-4E5F-9C39-54347430FEF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D326-160F-4560-B0D2-61C759E2D07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6C16-FCAF-4640-9197-BB7402C02D5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5" descr="grecobud3"/>
          <p:cNvPicPr/>
          <p:nvPr/>
        </p:nvPicPr>
        <p:blipFill>
          <a:blip r:embed="rId2"/>
          <a:stretch/>
        </p:blipFill>
        <p:spPr>
          <a:xfrm>
            <a:off x="8381880" y="38088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861B-5522-4E91-AA50-A9009BC7FDE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5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5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5.wmf"/><Relationship Id="rId30" Type="http://schemas.openxmlformats.org/officeDocument/2006/relationships/image" Target="../media/image16.wmf"/><Relationship Id="rId31" Type="http://schemas.openxmlformats.org/officeDocument/2006/relationships/image" Target="../media/image16.wmf"/><Relationship Id="rId32" Type="http://schemas.openxmlformats.org/officeDocument/2006/relationships/image" Target="../media/image16.wmf"/><Relationship Id="rId33" Type="http://schemas.openxmlformats.org/officeDocument/2006/relationships/image" Target="../media/image16.wmf"/><Relationship Id="rId34" Type="http://schemas.openxmlformats.org/officeDocument/2006/relationships/image" Target="../media/image16.wmf"/><Relationship Id="rId35" Type="http://schemas.openxmlformats.org/officeDocument/2006/relationships/image" Target="../media/image16.wmf"/><Relationship Id="rId36" Type="http://schemas.openxmlformats.org/officeDocument/2006/relationships/image" Target="../media/image16.wmf"/><Relationship Id="rId37" Type="http://schemas.openxmlformats.org/officeDocument/2006/relationships/image" Target="../media/image16.wmf"/><Relationship Id="rId38" Type="http://schemas.openxmlformats.org/officeDocument/2006/relationships/image" Target="../media/image16.wmf"/><Relationship Id="rId39" Type="http://schemas.openxmlformats.org/officeDocument/2006/relationships/image" Target="../media/image9.jpeg"/><Relationship Id="rId40" Type="http://schemas.openxmlformats.org/officeDocument/2006/relationships/image" Target="../media/image1.jpeg"/><Relationship Id="rId4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9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3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3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639720" y="950760"/>
            <a:ext cx="7907400" cy="11890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4560" y="3352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r. Gulshan Wadhwa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Corbel"/>
              </a:rPr>
              <a:t>Gulshan.dbt@nic.i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Joint Direct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partment of Biotechnolog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New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lhi</a:t>
            </a: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 , INDIA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2888640" y="20574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btisnet.gov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recobud3"/>
          <p:cNvPicPr/>
          <p:nvPr/>
        </p:nvPicPr>
        <p:blipFill>
          <a:blip r:embed="rId2"/>
          <a:stretch/>
        </p:blipFill>
        <p:spPr>
          <a:xfrm>
            <a:off x="43434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09480" y="151920"/>
            <a:ext cx="7772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imes New Roman"/>
              </a:rPr>
              <a:t>MIRROR SITES                       (JAI VIGYAN S&amp;T MISSION</a:t>
            </a:r>
            <a:r>
              <a:rPr b="0" lang="en-US" sz="4400" spc="-1" strike="noStrike">
                <a:solidFill>
                  <a:srgbClr val="5a6378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762120" y="18288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EMBnet (CDF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PDB (IISc &amp; University of P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B (IIS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EBI Databases (Pu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Plant Genome Databases (J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Public domain Biotech Software (IMTECH</a:t>
            </a:r>
            <a:r>
              <a:rPr b="0" lang="en-US" sz="2800" spc="-1" strike="noStrike">
                <a:solidFill>
                  <a:srgbClr val="68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imes New Roman"/>
              </a:rPr>
              <a:t>http://bic.uams.edu/pdsb/home.htm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320760" y="1004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Activities of India in Bio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961920" y="1873080"/>
            <a:ext cx="81820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vantGarde"/>
              </a:rPr>
              <a:t>Two forms of initiatives are in oper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001880" y="2438280"/>
            <a:ext cx="2968200" cy="38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Short-Term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Nationwide train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and worksh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Presently around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organised per year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seven defined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More than 10000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so 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698000" y="2514600"/>
            <a:ext cx="3475440" cy="2350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Long-Term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Advanced Diploma Cour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in five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M.Sc., M.Tech., Ph.D.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in Bioinforma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7" descr="grecobud3"/>
          <p:cNvPicPr/>
          <p:nvPr/>
        </p:nvPicPr>
        <p:blipFill>
          <a:blip r:embed="rId1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5614920" y="3733920"/>
            <a:ext cx="2165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4278240" y="689040"/>
            <a:ext cx="1550880" cy="1283400"/>
            <a:chOff x="4278240" y="689040"/>
            <a:chExt cx="1550880" cy="1283400"/>
          </a:xfrm>
        </p:grpSpPr>
        <p:grpSp>
          <p:nvGrpSpPr>
            <p:cNvPr id="373" name="Group 4"/>
            <p:cNvGrpSpPr/>
            <p:nvPr/>
          </p:nvGrpSpPr>
          <p:grpSpPr>
            <a:xfrm>
              <a:off x="4285440" y="698400"/>
              <a:ext cx="1543680" cy="1274040"/>
              <a:chOff x="4285440" y="698400"/>
              <a:chExt cx="1543680" cy="1274040"/>
            </a:xfrm>
          </p:grpSpPr>
          <p:grpSp>
            <p:nvGrpSpPr>
              <p:cNvPr id="374" name="Group 5"/>
              <p:cNvGrpSpPr/>
              <p:nvPr/>
            </p:nvGrpSpPr>
            <p:grpSpPr>
              <a:xfrm>
                <a:off x="4287240" y="702360"/>
                <a:ext cx="1537560" cy="1264320"/>
                <a:chOff x="4287240" y="702360"/>
                <a:chExt cx="1537560" cy="1264320"/>
              </a:xfrm>
            </p:grpSpPr>
            <p:sp>
              <p:nvSpPr>
                <p:cNvPr id="375" name="Oval 6"/>
                <p:cNvSpPr/>
                <p:nvPr/>
              </p:nvSpPr>
              <p:spPr>
                <a:xfrm>
                  <a:off x="4812480" y="702360"/>
                  <a:ext cx="67104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7"/>
                <p:cNvSpPr/>
                <p:nvPr/>
              </p:nvSpPr>
              <p:spPr>
                <a:xfrm>
                  <a:off x="4443120" y="841680"/>
                  <a:ext cx="512640" cy="522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8"/>
                <p:cNvSpPr/>
                <p:nvPr/>
              </p:nvSpPr>
              <p:spPr>
                <a:xfrm>
                  <a:off x="4287240" y="1155240"/>
                  <a:ext cx="346320" cy="421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"/>
                <p:cNvSpPr/>
                <p:nvPr/>
              </p:nvSpPr>
              <p:spPr>
                <a:xfrm>
                  <a:off x="4386960" y="1343520"/>
                  <a:ext cx="523080" cy="460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Oval 10"/>
                <p:cNvSpPr/>
                <p:nvPr/>
              </p:nvSpPr>
              <p:spPr>
                <a:xfrm>
                  <a:off x="4756320" y="1418040"/>
                  <a:ext cx="782280" cy="548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Oval 11"/>
                <p:cNvSpPr/>
                <p:nvPr/>
              </p:nvSpPr>
              <p:spPr>
                <a:xfrm>
                  <a:off x="5255640" y="854280"/>
                  <a:ext cx="499320" cy="408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Oval 12"/>
                <p:cNvSpPr/>
                <p:nvPr/>
              </p:nvSpPr>
              <p:spPr>
                <a:xfrm>
                  <a:off x="5329800" y="1118160"/>
                  <a:ext cx="495000" cy="409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13"/>
                <p:cNvSpPr/>
                <p:nvPr/>
              </p:nvSpPr>
              <p:spPr>
                <a:xfrm>
                  <a:off x="5284080" y="1205280"/>
                  <a:ext cx="493920" cy="674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4"/>
                <p:cNvSpPr/>
                <p:nvPr/>
              </p:nvSpPr>
              <p:spPr>
                <a:xfrm>
                  <a:off x="4563000" y="1005120"/>
                  <a:ext cx="1002960" cy="672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Arc 15"/>
              <p:cNvSpPr/>
              <p:nvPr/>
            </p:nvSpPr>
            <p:spPr>
              <a:xfrm>
                <a:off x="4829400" y="698400"/>
                <a:ext cx="636840" cy="263880"/>
              </a:xfrm>
              <a:custGeom>
                <a:avLst/>
                <a:gdLst>
                  <a:gd name="textAreaLeft" fmla="*/ 0 w 636840"/>
                  <a:gd name="textAreaRight" fmla="*/ 637200 w 63684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fill="none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</a:path>
                  <a:path stroke="0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  <a:lnTo>
                      <a:pt x="20461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Arc 16"/>
              <p:cNvSpPr/>
              <p:nvPr/>
            </p:nvSpPr>
            <p:spPr>
              <a:xfrm>
                <a:off x="4832640" y="702360"/>
                <a:ext cx="630360" cy="259560"/>
              </a:xfrm>
              <a:custGeom>
                <a:avLst/>
                <a:gdLst>
                  <a:gd name="textAreaLeft" fmla="*/ 0 w 630360"/>
                  <a:gd name="textAreaRight" fmla="*/ 630360 w 63036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fill="none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</a:path>
                  <a:path stroke="0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  <a:lnTo>
                      <a:pt x="204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Arc 17"/>
              <p:cNvSpPr/>
              <p:nvPr/>
            </p:nvSpPr>
            <p:spPr>
              <a:xfrm>
                <a:off x="4441320" y="834840"/>
                <a:ext cx="398520" cy="3222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fill="none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</a:path>
                  <a:path stroke="0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Arc 18"/>
              <p:cNvSpPr/>
              <p:nvPr/>
            </p:nvSpPr>
            <p:spPr>
              <a:xfrm>
                <a:off x="4444560" y="839160"/>
                <a:ext cx="393120" cy="31752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fill="none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</a:path>
                  <a:path stroke="0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Arc 19"/>
              <p:cNvSpPr/>
              <p:nvPr/>
            </p:nvSpPr>
            <p:spPr>
              <a:xfrm>
                <a:off x="4386240" y="1556280"/>
                <a:ext cx="397080" cy="249840"/>
              </a:xfrm>
              <a:custGeom>
                <a:avLst/>
                <a:gdLst>
                  <a:gd name="textAreaLeft" fmla="*/ 0 w 397080"/>
                  <a:gd name="textAreaRight" fmla="*/ 397440 w 39708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fill="none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</a:path>
                  <a:path stroke="0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  <a:lnTo>
                      <a:pt x="21600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Arc 20"/>
              <p:cNvSpPr/>
              <p:nvPr/>
            </p:nvSpPr>
            <p:spPr>
              <a:xfrm>
                <a:off x="4389480" y="1556280"/>
                <a:ext cx="392400" cy="24588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fill="none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</a:path>
                  <a:path stroke="0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  <a:lnTo>
                      <a:pt x="21600" y="113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Arc 21"/>
              <p:cNvSpPr/>
              <p:nvPr/>
            </p:nvSpPr>
            <p:spPr>
              <a:xfrm>
                <a:off x="4771440" y="1716840"/>
                <a:ext cx="686520" cy="255600"/>
              </a:xfrm>
              <a:custGeom>
                <a:avLst/>
                <a:gdLst/>
                <a:ahLst/>
                <a:rect l="l" t="t" r="r" b="b"/>
                <a:pathLst>
                  <a:path fill="none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Arc 22"/>
              <p:cNvSpPr/>
              <p:nvPr/>
            </p:nvSpPr>
            <p:spPr>
              <a:xfrm>
                <a:off x="4774320" y="1716840"/>
                <a:ext cx="680400" cy="251280"/>
              </a:xfrm>
              <a:custGeom>
                <a:avLst/>
                <a:gdLst>
                  <a:gd name="textAreaLeft" fmla="*/ 0 w 680400"/>
                  <a:gd name="textAreaRight" fmla="*/ 680760 w 680400"/>
                  <a:gd name="textAreaTop" fmla="*/ 0 h 251280"/>
                  <a:gd name="textAreaBottom" fmla="*/ 251640 h 251280"/>
                </a:gdLst>
                <a:ahLst/>
                <a:rect l="textAreaLeft" t="textAreaTop" r="textAreaRight" b="textAreaBottom"/>
                <a:pathLst>
                  <a:path fill="none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Arc 23"/>
              <p:cNvSpPr/>
              <p:nvPr/>
            </p:nvSpPr>
            <p:spPr>
              <a:xfrm>
                <a:off x="5457960" y="851400"/>
                <a:ext cx="300600" cy="30672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fill="none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</a:path>
                  <a:path stroke="0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  <a:lnTo>
                      <a:pt x="443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Arc 24"/>
              <p:cNvSpPr/>
              <p:nvPr/>
            </p:nvSpPr>
            <p:spPr>
              <a:xfrm>
                <a:off x="5459040" y="855720"/>
                <a:ext cx="296280" cy="30132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fill="none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</a:path>
                  <a:path stroke="0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  <a:lnTo>
                      <a:pt x="440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rc 25"/>
              <p:cNvSpPr/>
              <p:nvPr/>
            </p:nvSpPr>
            <p:spPr>
              <a:xfrm>
                <a:off x="5543280" y="1151280"/>
                <a:ext cx="285840" cy="3052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05280"/>
                  <a:gd name="textAreaBottom" fmla="*/ 305640 h 305280"/>
                </a:gdLst>
                <a:ahLst/>
                <a:rect l="textAreaLeft" t="textAreaTop" r="textAreaRight" b="textAreaBottom"/>
                <a:pathLst>
                  <a:path fill="none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</a:path>
                  <a:path stroke="0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  <a:lnTo>
                      <a:pt x="0" y="167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Arc 26"/>
              <p:cNvSpPr/>
              <p:nvPr/>
            </p:nvSpPr>
            <p:spPr>
              <a:xfrm>
                <a:off x="5543280" y="1154160"/>
                <a:ext cx="282600" cy="29988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fill="none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</a:path>
                  <a:path stroke="0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  <a:lnTo>
                      <a:pt x="0" y="1684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Arc 27"/>
              <p:cNvSpPr/>
              <p:nvPr/>
            </p:nvSpPr>
            <p:spPr>
              <a:xfrm>
                <a:off x="5448600" y="1451520"/>
                <a:ext cx="336960" cy="438120"/>
              </a:xfrm>
              <a:custGeom>
                <a:avLst/>
                <a:gdLst>
                  <a:gd name="textAreaLeft" fmla="*/ 0 w 336960"/>
                  <a:gd name="textAreaRight" fmla="*/ 337320 w 33696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fill="none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</a:path>
                  <a:path stroke="0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  <a:lnTo>
                      <a:pt x="7120" y="6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rc 28"/>
              <p:cNvSpPr/>
              <p:nvPr/>
            </p:nvSpPr>
            <p:spPr>
              <a:xfrm>
                <a:off x="5449680" y="1452600"/>
                <a:ext cx="332640" cy="43272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fill="none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</a:path>
                  <a:path stroke="0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  <a:lnTo>
                      <a:pt x="7121" y="6273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Arc 29"/>
              <p:cNvSpPr/>
              <p:nvPr/>
            </p:nvSpPr>
            <p:spPr>
              <a:xfrm>
                <a:off x="4285440" y="1148760"/>
                <a:ext cx="182160" cy="41436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fill="none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</a:path>
                  <a:path stroke="0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  <a:lnTo>
                      <a:pt x="21600" y="215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rc 30"/>
              <p:cNvSpPr/>
              <p:nvPr/>
            </p:nvSpPr>
            <p:spPr>
              <a:xfrm>
                <a:off x="4288320" y="1153080"/>
                <a:ext cx="178920" cy="40608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fill="none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</a:path>
                  <a:path stroke="0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4278240" y="689040"/>
              <a:ext cx="1543680" cy="1272240"/>
              <a:chOff x="4278240" y="689040"/>
              <a:chExt cx="1543680" cy="1272240"/>
            </a:xfrm>
          </p:grpSpPr>
          <p:grpSp>
            <p:nvGrpSpPr>
              <p:cNvPr id="401" name="Group 32"/>
              <p:cNvGrpSpPr/>
              <p:nvPr/>
            </p:nvGrpSpPr>
            <p:grpSpPr>
              <a:xfrm>
                <a:off x="4279320" y="693000"/>
                <a:ext cx="1538280" cy="1264320"/>
                <a:chOff x="4279320" y="693000"/>
                <a:chExt cx="1538280" cy="1264320"/>
              </a:xfrm>
            </p:grpSpPr>
            <p:sp>
              <p:nvSpPr>
                <p:cNvPr id="402" name="Oval 33"/>
                <p:cNvSpPr/>
                <p:nvPr/>
              </p:nvSpPr>
              <p:spPr>
                <a:xfrm>
                  <a:off x="4805640" y="693000"/>
                  <a:ext cx="669960" cy="5220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34"/>
                <p:cNvSpPr/>
                <p:nvPr/>
              </p:nvSpPr>
              <p:spPr>
                <a:xfrm>
                  <a:off x="4436280" y="832320"/>
                  <a:ext cx="512640" cy="5220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35"/>
                <p:cNvSpPr/>
                <p:nvPr/>
              </p:nvSpPr>
              <p:spPr>
                <a:xfrm>
                  <a:off x="4279320" y="1145880"/>
                  <a:ext cx="347400" cy="4212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36"/>
                <p:cNvSpPr/>
                <p:nvPr/>
              </p:nvSpPr>
              <p:spPr>
                <a:xfrm>
                  <a:off x="4379760" y="1333800"/>
                  <a:ext cx="523440" cy="458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37"/>
                <p:cNvSpPr/>
                <p:nvPr/>
              </p:nvSpPr>
              <p:spPr>
                <a:xfrm>
                  <a:off x="4749480" y="1408680"/>
                  <a:ext cx="781200" cy="5486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38"/>
                <p:cNvSpPr/>
                <p:nvPr/>
              </p:nvSpPr>
              <p:spPr>
                <a:xfrm>
                  <a:off x="5248800" y="844920"/>
                  <a:ext cx="498240" cy="4075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39"/>
                <p:cNvSpPr/>
                <p:nvPr/>
              </p:nvSpPr>
              <p:spPr>
                <a:xfrm>
                  <a:off x="5322600" y="1107360"/>
                  <a:ext cx="495000" cy="4104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40"/>
                <p:cNvSpPr/>
                <p:nvPr/>
              </p:nvSpPr>
              <p:spPr>
                <a:xfrm>
                  <a:off x="5276880" y="1194480"/>
                  <a:ext cx="493920" cy="6742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41"/>
                <p:cNvSpPr/>
                <p:nvPr/>
              </p:nvSpPr>
              <p:spPr>
                <a:xfrm>
                  <a:off x="4555800" y="995400"/>
                  <a:ext cx="1002600" cy="6724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Arc 42"/>
              <p:cNvSpPr/>
              <p:nvPr/>
            </p:nvSpPr>
            <p:spPr>
              <a:xfrm>
                <a:off x="4822560" y="689040"/>
                <a:ext cx="636480" cy="263520"/>
              </a:xfrm>
              <a:custGeom>
                <a:avLst/>
                <a:gdLst>
                  <a:gd name="textAreaLeft" fmla="*/ 0 w 636480"/>
                  <a:gd name="textAreaRight" fmla="*/ 636840 w 6364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fill="none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</a:path>
                  <a:path stroke="0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  <a:lnTo>
                      <a:pt x="20426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Arc 43"/>
              <p:cNvSpPr/>
              <p:nvPr/>
            </p:nvSpPr>
            <p:spPr>
              <a:xfrm>
                <a:off x="4825440" y="693000"/>
                <a:ext cx="629280" cy="259560"/>
              </a:xfrm>
              <a:custGeom>
                <a:avLst/>
                <a:gdLst>
                  <a:gd name="textAreaLeft" fmla="*/ 0 w 629280"/>
                  <a:gd name="textAreaRight" fmla="*/ 629640 w 62928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fill="none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</a:path>
                  <a:path stroke="0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  <a:lnTo>
                      <a:pt x="20412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Arc 44"/>
              <p:cNvSpPr/>
              <p:nvPr/>
            </p:nvSpPr>
            <p:spPr>
              <a:xfrm>
                <a:off x="4434120" y="825480"/>
                <a:ext cx="396360" cy="32184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fill="none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</a:path>
                  <a:path stroke="0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Arc 45"/>
              <p:cNvSpPr/>
              <p:nvPr/>
            </p:nvSpPr>
            <p:spPr>
              <a:xfrm>
                <a:off x="4437360" y="829800"/>
                <a:ext cx="390960" cy="31752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fill="none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</a:path>
                  <a:path stroke="0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Arc 46"/>
              <p:cNvSpPr/>
              <p:nvPr/>
            </p:nvSpPr>
            <p:spPr>
              <a:xfrm>
                <a:off x="4377960" y="1546920"/>
                <a:ext cx="398520" cy="251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fill="none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</a:path>
                  <a:path stroke="0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  <a:lnTo>
                      <a:pt x="21600" y="1128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Arc 47"/>
              <p:cNvSpPr/>
              <p:nvPr/>
            </p:nvSpPr>
            <p:spPr>
              <a:xfrm>
                <a:off x="4381200" y="1546920"/>
                <a:ext cx="393120" cy="24588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fill="none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</a:path>
                  <a:path stroke="0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  <a:lnTo>
                      <a:pt x="21600" y="1134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Arc 48"/>
              <p:cNvSpPr/>
              <p:nvPr/>
            </p:nvSpPr>
            <p:spPr>
              <a:xfrm>
                <a:off x="4764240" y="1705680"/>
                <a:ext cx="685440" cy="2556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fill="none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Arc 49"/>
              <p:cNvSpPr/>
              <p:nvPr/>
            </p:nvSpPr>
            <p:spPr>
              <a:xfrm>
                <a:off x="4767120" y="1705680"/>
                <a:ext cx="679320" cy="251640"/>
              </a:xfrm>
              <a:custGeom>
                <a:avLst/>
                <a:gdLst>
                  <a:gd name="textAreaLeft" fmla="*/ 0 w 679320"/>
                  <a:gd name="textAreaRight" fmla="*/ 679680 w 6793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fill="none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Arc 50"/>
              <p:cNvSpPr/>
              <p:nvPr/>
            </p:nvSpPr>
            <p:spPr>
              <a:xfrm>
                <a:off x="5450040" y="842040"/>
                <a:ext cx="302400" cy="306720"/>
              </a:xfrm>
              <a:custGeom>
                <a:avLst/>
                <a:gdLst>
                  <a:gd name="textAreaLeft" fmla="*/ 0 w 302400"/>
                  <a:gd name="textAreaRight" fmla="*/ 302400 w 302400"/>
                  <a:gd name="textAreaTop" fmla="*/ 0 h 306720"/>
                  <a:gd name="textAreaBottom" fmla="*/ 307080 h 306720"/>
                </a:gdLst>
                <a:ahLst/>
                <a:rect l="textAreaLeft" t="textAreaTop" r="textAreaRight" b="textAreaBottom"/>
                <a:pathLst>
                  <a:path fill="none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</a:path>
                  <a:path stroke="0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  <a:lnTo>
                      <a:pt x="4514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rc 51"/>
              <p:cNvSpPr/>
              <p:nvPr/>
            </p:nvSpPr>
            <p:spPr>
              <a:xfrm>
                <a:off x="5450760" y="846360"/>
                <a:ext cx="298440" cy="30096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fill="none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</a:path>
                  <a:path stroke="0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  <a:lnTo>
                      <a:pt x="448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Arc 52"/>
              <p:cNvSpPr/>
              <p:nvPr/>
            </p:nvSpPr>
            <p:spPr>
              <a:xfrm>
                <a:off x="5536080" y="1140840"/>
                <a:ext cx="285840" cy="3049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</a:path>
                  <a:path stroke="0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  <a:lnTo>
                      <a:pt x="0" y="1674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Arc 53"/>
              <p:cNvSpPr/>
              <p:nvPr/>
            </p:nvSpPr>
            <p:spPr>
              <a:xfrm>
                <a:off x="5536080" y="1143720"/>
                <a:ext cx="282600" cy="30096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fill="none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</a:path>
                  <a:path stroke="0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  <a:lnTo>
                      <a:pt x="0" y="16793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rc 54"/>
              <p:cNvSpPr/>
              <p:nvPr/>
            </p:nvSpPr>
            <p:spPr>
              <a:xfrm>
                <a:off x="5441400" y="1441800"/>
                <a:ext cx="336240" cy="43776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437760"/>
                  <a:gd name="textAreaBottom" fmla="*/ 438120 h 437760"/>
                </a:gdLst>
                <a:ahLst/>
                <a:rect l="textAreaLeft" t="textAreaTop" r="textAreaRight" b="textAreaBottom"/>
                <a:pathLst>
                  <a:path fill="none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</a:path>
                  <a:path stroke="0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  <a:lnTo>
                      <a:pt x="7028" y="626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Arc 55"/>
              <p:cNvSpPr/>
              <p:nvPr/>
            </p:nvSpPr>
            <p:spPr>
              <a:xfrm>
                <a:off x="5442480" y="1443600"/>
                <a:ext cx="331560" cy="432360"/>
              </a:xfrm>
              <a:custGeom>
                <a:avLst/>
                <a:gdLst>
                  <a:gd name="textAreaLeft" fmla="*/ 0 w 331560"/>
                  <a:gd name="textAreaRight" fmla="*/ 331920 w 33156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fill="none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</a:path>
                  <a:path stroke="0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  <a:lnTo>
                      <a:pt x="7028" y="626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Arc 56"/>
              <p:cNvSpPr/>
              <p:nvPr/>
            </p:nvSpPr>
            <p:spPr>
              <a:xfrm>
                <a:off x="4278240" y="1140840"/>
                <a:ext cx="182160" cy="412920"/>
              </a:xfrm>
              <a:custGeom>
                <a:avLst/>
                <a:gdLst>
                  <a:gd name="textAreaLeft" fmla="*/ 0 w 182160"/>
                  <a:gd name="textAreaRight" fmla="*/ 182160 w 18216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fill="none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</a:path>
                  <a:path stroke="0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rc 57"/>
              <p:cNvSpPr/>
              <p:nvPr/>
            </p:nvSpPr>
            <p:spPr>
              <a:xfrm>
                <a:off x="4281480" y="1144800"/>
                <a:ext cx="178560" cy="4046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fill="none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</a:path>
                  <a:path stroke="0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27" name="Object 2"/>
          <p:cNvGraphicFramePr/>
          <p:nvPr/>
        </p:nvGraphicFramePr>
        <p:xfrm>
          <a:off x="1468440" y="1309680"/>
          <a:ext cx="546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1309680"/>
                    <a:ext cx="546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 Box 59"/>
          <p:cNvSpPr/>
          <p:nvPr/>
        </p:nvSpPr>
        <p:spPr>
          <a:xfrm>
            <a:off x="304920" y="152280"/>
            <a:ext cx="883908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IOGRID  INDIA</a:t>
            </a:r>
            <a:r>
              <a:rPr b="0" lang="en-US" sz="4800" spc="-1" strike="noStrike">
                <a:solidFill>
                  <a:srgbClr val="ff00ff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60"/>
          <p:cNvGrpSpPr/>
          <p:nvPr/>
        </p:nvGrpSpPr>
        <p:grpSpPr>
          <a:xfrm>
            <a:off x="2887560" y="1996920"/>
            <a:ext cx="2540880" cy="2422800"/>
            <a:chOff x="2887560" y="1996920"/>
            <a:chExt cx="2540880" cy="2422800"/>
          </a:xfrm>
        </p:grpSpPr>
        <p:grpSp>
          <p:nvGrpSpPr>
            <p:cNvPr id="431" name="Group 61"/>
            <p:cNvGrpSpPr/>
            <p:nvPr/>
          </p:nvGrpSpPr>
          <p:grpSpPr>
            <a:xfrm>
              <a:off x="2899440" y="2014920"/>
              <a:ext cx="2529000" cy="2404800"/>
              <a:chOff x="2899440" y="2014920"/>
              <a:chExt cx="2529000" cy="2404800"/>
            </a:xfrm>
          </p:grpSpPr>
          <p:grpSp>
            <p:nvGrpSpPr>
              <p:cNvPr id="432" name="Group 62"/>
              <p:cNvGrpSpPr/>
              <p:nvPr/>
            </p:nvGrpSpPr>
            <p:grpSpPr>
              <a:xfrm>
                <a:off x="2902680" y="2022480"/>
                <a:ext cx="2518920" cy="2386080"/>
                <a:chOff x="2902680" y="2022480"/>
                <a:chExt cx="2518920" cy="2386080"/>
              </a:xfrm>
            </p:grpSpPr>
            <p:sp>
              <p:nvSpPr>
                <p:cNvPr id="433" name="Oval 63"/>
                <p:cNvSpPr/>
                <p:nvPr/>
              </p:nvSpPr>
              <p:spPr>
                <a:xfrm>
                  <a:off x="3763080" y="2022480"/>
                  <a:ext cx="1099080" cy="985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64"/>
                <p:cNvSpPr/>
                <p:nvPr/>
              </p:nvSpPr>
              <p:spPr>
                <a:xfrm>
                  <a:off x="3157920" y="2285640"/>
                  <a:ext cx="840240" cy="985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65"/>
                <p:cNvSpPr/>
                <p:nvPr/>
              </p:nvSpPr>
              <p:spPr>
                <a:xfrm>
                  <a:off x="2902680" y="2877480"/>
                  <a:ext cx="567360" cy="795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66"/>
                <p:cNvSpPr/>
                <p:nvPr/>
              </p:nvSpPr>
              <p:spPr>
                <a:xfrm>
                  <a:off x="3066120" y="3232440"/>
                  <a:ext cx="857160" cy="868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67"/>
                <p:cNvSpPr/>
                <p:nvPr/>
              </p:nvSpPr>
              <p:spPr>
                <a:xfrm>
                  <a:off x="3671280" y="3373200"/>
                  <a:ext cx="1281600" cy="103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68"/>
                <p:cNvSpPr/>
                <p:nvPr/>
              </p:nvSpPr>
              <p:spPr>
                <a:xfrm>
                  <a:off x="4489200" y="2309040"/>
                  <a:ext cx="817920" cy="7718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69"/>
                <p:cNvSpPr/>
                <p:nvPr/>
              </p:nvSpPr>
              <p:spPr>
                <a:xfrm>
                  <a:off x="4610520" y="2807280"/>
                  <a:ext cx="811080" cy="772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70"/>
                <p:cNvSpPr/>
                <p:nvPr/>
              </p:nvSpPr>
              <p:spPr>
                <a:xfrm>
                  <a:off x="4535640" y="2971440"/>
                  <a:ext cx="809280" cy="12726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71"/>
                <p:cNvSpPr/>
                <p:nvPr/>
              </p:nvSpPr>
              <p:spPr>
                <a:xfrm>
                  <a:off x="3354480" y="2593800"/>
                  <a:ext cx="1643040" cy="1269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Arc 72"/>
              <p:cNvSpPr/>
              <p:nvPr/>
            </p:nvSpPr>
            <p:spPr>
              <a:xfrm>
                <a:off x="3790440" y="2014920"/>
                <a:ext cx="1042920" cy="497880"/>
              </a:xfrm>
              <a:custGeom>
                <a:avLst/>
                <a:gdLst>
                  <a:gd name="textAreaLeft" fmla="*/ 0 w 1042920"/>
                  <a:gd name="textAreaRight" fmla="*/ 1043280 w 104292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fill="none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</a:path>
                  <a:path stroke="0" w="40496" h="21600">
                    <a:moveTo>
                      <a:pt x="0" y="14677"/>
                    </a:moveTo>
                    <a:cubicBezTo>
                      <a:pt x="2968" y="5904"/>
                      <a:pt x="11199" y="-1"/>
                      <a:pt x="20461" y="0"/>
                    </a:cubicBezTo>
                    <a:cubicBezTo>
                      <a:pt x="29273" y="0"/>
                      <a:pt x="37202" y="5353"/>
                      <a:pt x="40495" y="13527"/>
                    </a:cubicBezTo>
                    <a:lnTo>
                      <a:pt x="20461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rc 73"/>
              <p:cNvSpPr/>
              <p:nvPr/>
            </p:nvSpPr>
            <p:spPr>
              <a:xfrm>
                <a:off x="3795840" y="2022480"/>
                <a:ext cx="1032480" cy="490320"/>
              </a:xfrm>
              <a:custGeom>
                <a:avLst/>
                <a:gdLst>
                  <a:gd name="textAreaLeft" fmla="*/ 0 w 1032480"/>
                  <a:gd name="textAreaRight" fmla="*/ 1032840 w 103248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fill="none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</a:path>
                  <a:path stroke="0" w="40463" h="21600">
                    <a:moveTo>
                      <a:pt x="0" y="14636"/>
                    </a:moveTo>
                    <a:cubicBezTo>
                      <a:pt x="2981" y="5884"/>
                      <a:pt x="11201" y="-1"/>
                      <a:pt x="20447" y="0"/>
                    </a:cubicBezTo>
                    <a:cubicBezTo>
                      <a:pt x="29241" y="0"/>
                      <a:pt x="37157" y="5331"/>
                      <a:pt x="40463" y="13480"/>
                    </a:cubicBezTo>
                    <a:lnTo>
                      <a:pt x="2044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Arc 74"/>
              <p:cNvSpPr/>
              <p:nvPr/>
            </p:nvSpPr>
            <p:spPr>
              <a:xfrm>
                <a:off x="3155040" y="2272680"/>
                <a:ext cx="652680" cy="60804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fill="none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</a:path>
                  <a:path stroke="0" w="33055" h="26385">
                    <a:moveTo>
                      <a:pt x="536" y="26385"/>
                    </a:moveTo>
                    <a:cubicBezTo>
                      <a:pt x="180" y="24815"/>
                      <a:pt x="0" y="2321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51" y="-1"/>
                      <a:pt x="29620" y="1139"/>
                      <a:pt x="33055" y="3287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Arc 75"/>
              <p:cNvSpPr/>
              <p:nvPr/>
            </p:nvSpPr>
            <p:spPr>
              <a:xfrm>
                <a:off x="3160080" y="2280960"/>
                <a:ext cx="644040" cy="59976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fill="none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</a:path>
                  <a:path stroke="0" w="33024" h="26402">
                    <a:moveTo>
                      <a:pt x="540" y="26402"/>
                    </a:moveTo>
                    <a:cubicBezTo>
                      <a:pt x="181" y="24826"/>
                      <a:pt x="0" y="23215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8" y="-1"/>
                      <a:pt x="29596" y="1132"/>
                      <a:pt x="33023" y="3268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Arc 76"/>
              <p:cNvSpPr/>
              <p:nvPr/>
            </p:nvSpPr>
            <p:spPr>
              <a:xfrm>
                <a:off x="3064680" y="3634560"/>
                <a:ext cx="650880" cy="47196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471960"/>
                  <a:gd name="textAreaBottom" fmla="*/ 472320 h 471960"/>
                </a:gdLst>
                <a:ahLst/>
                <a:rect l="textAreaLeft" t="textAreaTop" r="textAreaRight" b="textAreaBottom"/>
                <a:pathLst>
                  <a:path fill="none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</a:path>
                  <a:path stroke="0" w="32080" h="22725">
                    <a:moveTo>
                      <a:pt x="32080" y="20012"/>
                    </a:moveTo>
                    <a:cubicBezTo>
                      <a:pt x="28873" y="21791"/>
                      <a:pt x="25267" y="22724"/>
                      <a:pt x="21600" y="22725"/>
                    </a:cubicBezTo>
                    <a:cubicBezTo>
                      <a:pt x="9670" y="22725"/>
                      <a:pt x="0" y="13054"/>
                      <a:pt x="0" y="1125"/>
                    </a:cubicBezTo>
                    <a:cubicBezTo>
                      <a:pt x="-1" y="749"/>
                      <a:pt x="9" y="374"/>
                      <a:pt x="29" y="0"/>
                    </a:cubicBezTo>
                    <a:lnTo>
                      <a:pt x="21600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Arc 77"/>
              <p:cNvSpPr/>
              <p:nvPr/>
            </p:nvSpPr>
            <p:spPr>
              <a:xfrm>
                <a:off x="3069720" y="3634560"/>
                <a:ext cx="642600" cy="464040"/>
              </a:xfrm>
              <a:custGeom>
                <a:avLst/>
                <a:gdLst>
                  <a:gd name="textAreaLeft" fmla="*/ 0 w 642600"/>
                  <a:gd name="textAreaRight" fmla="*/ 642960 w 64260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fill="none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</a:path>
                  <a:path stroke="0" w="32033" h="22732">
                    <a:moveTo>
                      <a:pt x="32033" y="20045"/>
                    </a:moveTo>
                    <a:cubicBezTo>
                      <a:pt x="28838" y="21807"/>
                      <a:pt x="25248" y="22731"/>
                      <a:pt x="21600" y="22732"/>
                    </a:cubicBezTo>
                    <a:cubicBezTo>
                      <a:pt x="9670" y="22732"/>
                      <a:pt x="0" y="13061"/>
                      <a:pt x="0" y="1132"/>
                    </a:cubicBezTo>
                    <a:cubicBezTo>
                      <a:pt x="-1" y="754"/>
                      <a:pt x="9" y="376"/>
                      <a:pt x="29" y="-1"/>
                    </a:cubicBezTo>
                    <a:lnTo>
                      <a:pt x="21600" y="1132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Arc 78"/>
              <p:cNvSpPr/>
              <p:nvPr/>
            </p:nvSpPr>
            <p:spPr>
              <a:xfrm>
                <a:off x="3695400" y="3937320"/>
                <a:ext cx="1124640" cy="482400"/>
              </a:xfrm>
              <a:custGeom>
                <a:avLst/>
                <a:gdLst>
                  <a:gd name="textAreaLeft" fmla="*/ 0 w 1124640"/>
                  <a:gd name="textAreaRight" fmla="*/ 1125000 w 112464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fill="none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97" h="21600">
                    <a:moveTo>
                      <a:pt x="-26739" y="12330"/>
                    </a:moveTo>
                    <a:cubicBezTo>
                      <a:pt x="-30777" y="18137"/>
                      <a:pt x="28134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Arc 79"/>
              <p:cNvSpPr/>
              <p:nvPr/>
            </p:nvSpPr>
            <p:spPr>
              <a:xfrm>
                <a:off x="3700440" y="3937320"/>
                <a:ext cx="1114560" cy="47412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0 h 474120"/>
                  <a:gd name="textAreaBottom" fmla="*/ 474480 h 474120"/>
                </a:gdLst>
                <a:ahLst/>
                <a:rect l="textAreaLeft" t="textAreaTop" r="textAreaRight" b="textAreaBottom"/>
                <a:pathLst>
                  <a:path fill="none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740" h="21600">
                    <a:moveTo>
                      <a:pt x="38740" y="12398"/>
                    </a:moveTo>
                    <a:cubicBezTo>
                      <a:pt x="34697" y="18165"/>
                      <a:pt x="28096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Arc 80"/>
              <p:cNvSpPr/>
              <p:nvPr/>
            </p:nvSpPr>
            <p:spPr>
              <a:xfrm>
                <a:off x="4820400" y="2304000"/>
                <a:ext cx="492120" cy="57888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578880"/>
                  <a:gd name="textAreaBottom" fmla="*/ 579240 h 578880"/>
                </a:gdLst>
                <a:ahLst/>
                <a:rect l="textAreaLeft" t="textAreaTop" r="textAreaRight" b="textAreaBottom"/>
                <a:pathLst>
                  <a:path fill="none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</a:path>
                  <a:path stroke="0" w="26037" h="32676">
                    <a:moveTo>
                      <a:pt x="-1" y="460"/>
                    </a:moveTo>
                    <a:cubicBezTo>
                      <a:pt x="1459" y="154"/>
                      <a:pt x="2946" y="-1"/>
                      <a:pt x="4437" y="0"/>
                    </a:cubicBezTo>
                    <a:cubicBezTo>
                      <a:pt x="16366" y="0"/>
                      <a:pt x="26037" y="9670"/>
                      <a:pt x="26037" y="21600"/>
                    </a:cubicBezTo>
                    <a:cubicBezTo>
                      <a:pt x="26037" y="25500"/>
                      <a:pt x="24980" y="29327"/>
                      <a:pt x="22981" y="32676"/>
                    </a:cubicBezTo>
                    <a:lnTo>
                      <a:pt x="4437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Arc 81"/>
              <p:cNvSpPr/>
              <p:nvPr/>
            </p:nvSpPr>
            <p:spPr>
              <a:xfrm>
                <a:off x="4821840" y="2311560"/>
                <a:ext cx="485640" cy="56880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568800"/>
                  <a:gd name="textAreaBottom" fmla="*/ 569160 h 568800"/>
                </a:gdLst>
                <a:ahLst/>
                <a:rect l="textAreaLeft" t="textAreaTop" r="textAreaRight" b="textAreaBottom"/>
                <a:pathLst>
                  <a:path fill="none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</a:path>
                  <a:path stroke="0" w="26003" h="32742">
                    <a:moveTo>
                      <a:pt x="0" y="453"/>
                    </a:moveTo>
                    <a:cubicBezTo>
                      <a:pt x="1448" y="151"/>
                      <a:pt x="2923" y="-1"/>
                      <a:pt x="4403" y="0"/>
                    </a:cubicBezTo>
                    <a:cubicBezTo>
                      <a:pt x="16332" y="0"/>
                      <a:pt x="26003" y="9670"/>
                      <a:pt x="26003" y="21600"/>
                    </a:cubicBezTo>
                    <a:cubicBezTo>
                      <a:pt x="26003" y="25526"/>
                      <a:pt x="24932" y="29378"/>
                      <a:pt x="22907" y="32742"/>
                    </a:cubicBezTo>
                    <a:lnTo>
                      <a:pt x="4403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Arc 82"/>
              <p:cNvSpPr/>
              <p:nvPr/>
            </p:nvSpPr>
            <p:spPr>
              <a:xfrm>
                <a:off x="4960080" y="2870280"/>
                <a:ext cx="468360" cy="57672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fill="none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</a:path>
                  <a:path stroke="0" w="21600" h="29401">
                    <a:moveTo>
                      <a:pt x="13583" y="0"/>
                    </a:moveTo>
                    <a:cubicBezTo>
                      <a:pt x="18654" y="4101"/>
                      <a:pt x="21600" y="10273"/>
                      <a:pt x="21600" y="16794"/>
                    </a:cubicBezTo>
                    <a:cubicBezTo>
                      <a:pt x="21600" y="21317"/>
                      <a:pt x="20179" y="25727"/>
                      <a:pt x="17539" y="29401"/>
                    </a:cubicBezTo>
                    <a:lnTo>
                      <a:pt x="0" y="167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Arc 83"/>
              <p:cNvSpPr/>
              <p:nvPr/>
            </p:nvSpPr>
            <p:spPr>
              <a:xfrm>
                <a:off x="4960080" y="2875320"/>
                <a:ext cx="463320" cy="56592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565920"/>
                  <a:gd name="textAreaBottom" fmla="*/ 566280 h 565920"/>
                </a:gdLst>
                <a:ahLst/>
                <a:rect l="textAreaLeft" t="textAreaTop" r="textAreaRight" b="textAreaBottom"/>
                <a:pathLst>
                  <a:path fill="none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</a:path>
                  <a:path stroke="0" w="21600" h="29516">
                    <a:moveTo>
                      <a:pt x="13520" y="-1"/>
                    </a:moveTo>
                    <a:cubicBezTo>
                      <a:pt x="18628" y="4099"/>
                      <a:pt x="21600" y="10295"/>
                      <a:pt x="21600" y="16845"/>
                    </a:cubicBezTo>
                    <a:cubicBezTo>
                      <a:pt x="21600" y="21395"/>
                      <a:pt x="20162" y="25830"/>
                      <a:pt x="17493" y="29516"/>
                    </a:cubicBezTo>
                    <a:lnTo>
                      <a:pt x="0" y="16845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Arc 84"/>
              <p:cNvSpPr/>
              <p:nvPr/>
            </p:nvSpPr>
            <p:spPr>
              <a:xfrm>
                <a:off x="4804920" y="3436200"/>
                <a:ext cx="552240" cy="826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fill="none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</a:path>
                  <a:path stroke="0" w="28720" h="27874">
                    <a:moveTo>
                      <a:pt x="27788" y="0"/>
                    </a:moveTo>
                    <a:cubicBezTo>
                      <a:pt x="28406" y="2034"/>
                      <a:pt x="28720" y="4148"/>
                      <a:pt x="28720" y="6274"/>
                    </a:cubicBezTo>
                    <a:cubicBezTo>
                      <a:pt x="28720" y="18203"/>
                      <a:pt x="19049" y="27874"/>
                      <a:pt x="7120" y="27874"/>
                    </a:cubicBezTo>
                    <a:cubicBezTo>
                      <a:pt x="4695" y="27874"/>
                      <a:pt x="2288" y="27465"/>
                      <a:pt x="0" y="26666"/>
                    </a:cubicBezTo>
                    <a:lnTo>
                      <a:pt x="7120" y="6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Arc 85"/>
              <p:cNvSpPr/>
              <p:nvPr/>
            </p:nvSpPr>
            <p:spPr>
              <a:xfrm>
                <a:off x="4806720" y="3438720"/>
                <a:ext cx="545040" cy="816840"/>
              </a:xfrm>
              <a:custGeom>
                <a:avLst/>
                <a:gdLst>
                  <a:gd name="textAreaLeft" fmla="*/ 0 w 545040"/>
                  <a:gd name="textAreaRight" fmla="*/ 545400 w 545040"/>
                  <a:gd name="textAreaTop" fmla="*/ 0 h 816840"/>
                  <a:gd name="textAreaBottom" fmla="*/ 817200 h 816840"/>
                </a:gdLst>
                <a:ahLst/>
                <a:rect l="textAreaLeft" t="textAreaTop" r="textAreaRight" b="textAreaBottom"/>
                <a:pathLst>
                  <a:path fill="none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</a:path>
                  <a:path stroke="0" w="28721" h="27873">
                    <a:moveTo>
                      <a:pt x="27790" y="-1"/>
                    </a:moveTo>
                    <a:cubicBezTo>
                      <a:pt x="28407" y="2033"/>
                      <a:pt x="28721" y="4147"/>
                      <a:pt x="28721" y="6273"/>
                    </a:cubicBezTo>
                    <a:cubicBezTo>
                      <a:pt x="28721" y="18202"/>
                      <a:pt x="19050" y="27873"/>
                      <a:pt x="7121" y="27873"/>
                    </a:cubicBezTo>
                    <a:cubicBezTo>
                      <a:pt x="4696" y="27873"/>
                      <a:pt x="2288" y="27464"/>
                      <a:pt x="-1" y="26665"/>
                    </a:cubicBezTo>
                    <a:lnTo>
                      <a:pt x="7121" y="6273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Arc 86"/>
              <p:cNvSpPr/>
              <p:nvPr/>
            </p:nvSpPr>
            <p:spPr>
              <a:xfrm>
                <a:off x="2899440" y="2864880"/>
                <a:ext cx="298080" cy="7822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fill="none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</a:path>
                  <a:path stroke="0" w="21600" h="41270">
                    <a:moveTo>
                      <a:pt x="12790" y="41269"/>
                    </a:moveTo>
                    <a:cubicBezTo>
                      <a:pt x="5009" y="37794"/>
                      <a:pt x="0" y="30069"/>
                      <a:pt x="0" y="21548"/>
                    </a:cubicBezTo>
                    <a:cubicBezTo>
                      <a:pt x="-1" y="10197"/>
                      <a:pt x="8785" y="783"/>
                      <a:pt x="20108" y="-1"/>
                    </a:cubicBezTo>
                    <a:lnTo>
                      <a:pt x="21600" y="215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Arc 87"/>
              <p:cNvSpPr/>
              <p:nvPr/>
            </p:nvSpPr>
            <p:spPr>
              <a:xfrm>
                <a:off x="2904120" y="2873160"/>
                <a:ext cx="293040" cy="766440"/>
              </a:xfrm>
              <a:custGeom>
                <a:avLst/>
                <a:gdLst>
                  <a:gd name="textAreaLeft" fmla="*/ 0 w 293040"/>
                  <a:gd name="textAreaRight" fmla="*/ 293400 w 293040"/>
                  <a:gd name="textAreaTop" fmla="*/ 0 h 766440"/>
                  <a:gd name="textAreaBottom" fmla="*/ 766800 h 766440"/>
                </a:gdLst>
                <a:ahLst/>
                <a:rect l="textAreaLeft" t="textAreaTop" r="textAreaRight" b="textAreaBottom"/>
                <a:pathLst>
                  <a:path fill="none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</a:path>
                  <a:path stroke="0" w="21600" h="41277">
                    <a:moveTo>
                      <a:pt x="12804" y="41276"/>
                    </a:moveTo>
                    <a:cubicBezTo>
                      <a:pt x="5016" y="37804"/>
                      <a:pt x="0" y="30075"/>
                      <a:pt x="0" y="21549"/>
                    </a:cubicBezTo>
                    <a:cubicBezTo>
                      <a:pt x="-1" y="10197"/>
                      <a:pt x="8787" y="782"/>
                      <a:pt x="20112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000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88"/>
            <p:cNvGrpSpPr/>
            <p:nvPr/>
          </p:nvGrpSpPr>
          <p:grpSpPr>
            <a:xfrm>
              <a:off x="2887560" y="1996920"/>
              <a:ext cx="2529000" cy="2401920"/>
              <a:chOff x="2887560" y="1996920"/>
              <a:chExt cx="2529000" cy="2401920"/>
            </a:xfrm>
          </p:grpSpPr>
          <p:grpSp>
            <p:nvGrpSpPr>
              <p:cNvPr id="459" name="Group 89"/>
              <p:cNvGrpSpPr/>
              <p:nvPr/>
            </p:nvGrpSpPr>
            <p:grpSpPr>
              <a:xfrm>
                <a:off x="2889360" y="2004480"/>
                <a:ext cx="2520360" cy="2386080"/>
                <a:chOff x="2889360" y="2004480"/>
                <a:chExt cx="2520360" cy="2386080"/>
              </a:xfrm>
            </p:grpSpPr>
            <p:sp>
              <p:nvSpPr>
                <p:cNvPr id="460" name="Oval 90"/>
                <p:cNvSpPr/>
                <p:nvPr/>
              </p:nvSpPr>
              <p:spPr>
                <a:xfrm>
                  <a:off x="3751560" y="2004480"/>
                  <a:ext cx="1097280" cy="985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91"/>
                <p:cNvSpPr/>
                <p:nvPr/>
              </p:nvSpPr>
              <p:spPr>
                <a:xfrm>
                  <a:off x="3146760" y="2267640"/>
                  <a:ext cx="839880" cy="985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92"/>
                <p:cNvSpPr/>
                <p:nvPr/>
              </p:nvSpPr>
              <p:spPr>
                <a:xfrm>
                  <a:off x="2889360" y="2859480"/>
                  <a:ext cx="569160" cy="7952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93"/>
                <p:cNvSpPr/>
                <p:nvPr/>
              </p:nvSpPr>
              <p:spPr>
                <a:xfrm>
                  <a:off x="3054240" y="3214440"/>
                  <a:ext cx="857520" cy="8658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94"/>
                <p:cNvSpPr/>
                <p:nvPr/>
              </p:nvSpPr>
              <p:spPr>
                <a:xfrm>
                  <a:off x="3659400" y="3355200"/>
                  <a:ext cx="1279800" cy="103536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95"/>
                <p:cNvSpPr/>
                <p:nvPr/>
              </p:nvSpPr>
              <p:spPr>
                <a:xfrm>
                  <a:off x="4477680" y="2291040"/>
                  <a:ext cx="816120" cy="7693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96"/>
                <p:cNvSpPr/>
                <p:nvPr/>
              </p:nvSpPr>
              <p:spPr>
                <a:xfrm>
                  <a:off x="4598640" y="2786760"/>
                  <a:ext cx="811080" cy="7747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97"/>
                <p:cNvSpPr/>
                <p:nvPr/>
              </p:nvSpPr>
              <p:spPr>
                <a:xfrm>
                  <a:off x="4523760" y="2951280"/>
                  <a:ext cx="809280" cy="12726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98"/>
                <p:cNvSpPr/>
                <p:nvPr/>
              </p:nvSpPr>
              <p:spPr>
                <a:xfrm>
                  <a:off x="3342600" y="2575800"/>
                  <a:ext cx="1642680" cy="126972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Arc 99"/>
              <p:cNvSpPr/>
              <p:nvPr/>
            </p:nvSpPr>
            <p:spPr>
              <a:xfrm>
                <a:off x="3778920" y="1996920"/>
                <a:ext cx="1042560" cy="49788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fill="none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</a:path>
                  <a:path stroke="0" w="40461" h="21600">
                    <a:moveTo>
                      <a:pt x="-1" y="14575"/>
                    </a:moveTo>
                    <a:cubicBezTo>
                      <a:pt x="2998" y="5855"/>
                      <a:pt x="11203" y="-1"/>
                      <a:pt x="20426" y="0"/>
                    </a:cubicBezTo>
                    <a:cubicBezTo>
                      <a:pt x="29238" y="0"/>
                      <a:pt x="37167" y="5353"/>
                      <a:pt x="40460" y="13527"/>
                    </a:cubicBezTo>
                    <a:lnTo>
                      <a:pt x="20426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Arc 100"/>
              <p:cNvSpPr/>
              <p:nvPr/>
            </p:nvSpPr>
            <p:spPr>
              <a:xfrm>
                <a:off x="3783960" y="2004480"/>
                <a:ext cx="1031040" cy="490320"/>
              </a:xfrm>
              <a:custGeom>
                <a:avLst/>
                <a:gdLst>
                  <a:gd name="textAreaLeft" fmla="*/ 0 w 1031040"/>
                  <a:gd name="textAreaRight" fmla="*/ 1031400 w 10310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fill="none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</a:path>
                  <a:path stroke="0" w="40428" h="21600">
                    <a:moveTo>
                      <a:pt x="0" y="14534"/>
                    </a:moveTo>
                    <a:cubicBezTo>
                      <a:pt x="3011" y="5834"/>
                      <a:pt x="11206" y="-1"/>
                      <a:pt x="20412" y="0"/>
                    </a:cubicBezTo>
                    <a:cubicBezTo>
                      <a:pt x="29206" y="0"/>
                      <a:pt x="37122" y="5331"/>
                      <a:pt x="40428" y="13480"/>
                    </a:cubicBezTo>
                    <a:lnTo>
                      <a:pt x="20412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rc 101"/>
              <p:cNvSpPr/>
              <p:nvPr/>
            </p:nvSpPr>
            <p:spPr>
              <a:xfrm>
                <a:off x="3143160" y="2254680"/>
                <a:ext cx="649080" cy="608040"/>
              </a:xfrm>
              <a:custGeom>
                <a:avLst/>
                <a:gdLst>
                  <a:gd name="textAreaLeft" fmla="*/ 0 w 649080"/>
                  <a:gd name="textAreaRight" fmla="*/ 649440 w 64908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fill="none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</a:path>
                  <a:path stroke="0" w="33020" h="26357">
                    <a:moveTo>
                      <a:pt x="530" y="26356"/>
                    </a:moveTo>
                    <a:cubicBezTo>
                      <a:pt x="177" y="24795"/>
                      <a:pt x="0" y="23200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37" y="-1"/>
                      <a:pt x="29593" y="1131"/>
                      <a:pt x="33020" y="3265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Arc 102"/>
              <p:cNvSpPr/>
              <p:nvPr/>
            </p:nvSpPr>
            <p:spPr>
              <a:xfrm>
                <a:off x="3148200" y="2262960"/>
                <a:ext cx="640800" cy="59976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fill="none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</a:path>
                  <a:path stroke="0" w="32989" h="26374">
                    <a:moveTo>
                      <a:pt x="534" y="26373"/>
                    </a:moveTo>
                    <a:cubicBezTo>
                      <a:pt x="179" y="24807"/>
                      <a:pt x="0" y="2320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25624" y="-1"/>
                      <a:pt x="29569" y="1124"/>
                      <a:pt x="32989" y="3246"/>
                    </a:cubicBez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Arc 103"/>
              <p:cNvSpPr/>
              <p:nvPr/>
            </p:nvSpPr>
            <p:spPr>
              <a:xfrm>
                <a:off x="3051360" y="3616560"/>
                <a:ext cx="652680" cy="47484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474840"/>
                  <a:gd name="textAreaBottom" fmla="*/ 475200 h 474840"/>
                </a:gdLst>
                <a:ahLst/>
                <a:rect l="textAreaLeft" t="textAreaTop" r="textAreaRight" b="textAreaBottom"/>
                <a:pathLst>
                  <a:path fill="none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</a:path>
                  <a:path stroke="0" w="32118" h="22728">
                    <a:moveTo>
                      <a:pt x="32118" y="19994"/>
                    </a:moveTo>
                    <a:cubicBezTo>
                      <a:pt x="28902" y="21786"/>
                      <a:pt x="25281" y="22727"/>
                      <a:pt x="21600" y="22728"/>
                    </a:cubicBezTo>
                    <a:cubicBezTo>
                      <a:pt x="9670" y="22728"/>
                      <a:pt x="0" y="13057"/>
                      <a:pt x="0" y="1128"/>
                    </a:cubicBezTo>
                    <a:cubicBezTo>
                      <a:pt x="-1" y="751"/>
                      <a:pt x="9" y="375"/>
                      <a:pt x="29" y="0"/>
                    </a:cubicBezTo>
                    <a:lnTo>
                      <a:pt x="21600" y="1128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Arc 104"/>
              <p:cNvSpPr/>
              <p:nvPr/>
            </p:nvSpPr>
            <p:spPr>
              <a:xfrm>
                <a:off x="3056400" y="3616560"/>
                <a:ext cx="644040" cy="464040"/>
              </a:xfrm>
              <a:custGeom>
                <a:avLst/>
                <a:gdLst>
                  <a:gd name="textAreaLeft" fmla="*/ 0 w 644040"/>
                  <a:gd name="textAreaRight" fmla="*/ 644400 w 644040"/>
                  <a:gd name="textAreaTop" fmla="*/ 0 h 464040"/>
                  <a:gd name="textAreaBottom" fmla="*/ 464400 h 464040"/>
                </a:gdLst>
                <a:ahLst/>
                <a:rect l="textAreaLeft" t="textAreaTop" r="textAreaRight" b="textAreaBottom"/>
                <a:pathLst>
                  <a:path fill="none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</a:path>
                  <a:path stroke="0" w="32071" h="22734">
                    <a:moveTo>
                      <a:pt x="32071" y="20026"/>
                    </a:moveTo>
                    <a:cubicBezTo>
                      <a:pt x="28866" y="21802"/>
                      <a:pt x="25263" y="22733"/>
                      <a:pt x="21600" y="22734"/>
                    </a:cubicBezTo>
                    <a:cubicBezTo>
                      <a:pt x="9670" y="22734"/>
                      <a:pt x="0" y="13063"/>
                      <a:pt x="0" y="1134"/>
                    </a:cubicBezTo>
                    <a:cubicBezTo>
                      <a:pt x="-1" y="755"/>
                      <a:pt x="9" y="377"/>
                      <a:pt x="29" y="-1"/>
                    </a:cubicBezTo>
                    <a:lnTo>
                      <a:pt x="21600" y="1134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rc 105"/>
              <p:cNvSpPr/>
              <p:nvPr/>
            </p:nvSpPr>
            <p:spPr>
              <a:xfrm>
                <a:off x="3683520" y="3916440"/>
                <a:ext cx="1123200" cy="482400"/>
              </a:xfrm>
              <a:custGeom>
                <a:avLst/>
                <a:gdLst>
                  <a:gd name="textAreaLeft" fmla="*/ 0 w 1123200"/>
                  <a:gd name="textAreaRight" fmla="*/ 1123560 w 112320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fill="none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</a:path>
                  <a:path stroke="0" w="38742" h="21600">
                    <a:moveTo>
                      <a:pt x="-26795" y="12408"/>
                    </a:moveTo>
                    <a:cubicBezTo>
                      <a:pt x="-30838" y="18170"/>
                      <a:pt x="28100" y="21599"/>
                      <a:pt x="21062" y="21600"/>
                    </a:cubicBezTo>
                    <a:cubicBezTo>
                      <a:pt x="10978" y="21600"/>
                      <a:pt x="2237" y="14623"/>
                      <a:pt x="0" y="4791"/>
                    </a:cubicBezTo>
                    <a:lnTo>
                      <a:pt x="21062" y="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Arc 106"/>
              <p:cNvSpPr/>
              <p:nvPr/>
            </p:nvSpPr>
            <p:spPr>
              <a:xfrm>
                <a:off x="3688560" y="3916440"/>
                <a:ext cx="1112760" cy="47484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474840"/>
                  <a:gd name="textAreaBottom" fmla="*/ 475200 h 474840"/>
                </a:gdLst>
                <a:ahLst/>
                <a:rect l="textAreaLeft" t="textAreaTop" r="textAreaRight" b="textAreaBottom"/>
                <a:pathLst>
                  <a:path fill="none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</a:path>
                  <a:path stroke="0" w="38685" h="21600">
                    <a:moveTo>
                      <a:pt x="38684" y="12476"/>
                    </a:moveTo>
                    <a:cubicBezTo>
                      <a:pt x="34636" y="18198"/>
                      <a:pt x="28062" y="21599"/>
                      <a:pt x="21053" y="21600"/>
                    </a:cubicBezTo>
                    <a:cubicBezTo>
                      <a:pt x="10984" y="21600"/>
                      <a:pt x="2250" y="14643"/>
                      <a:pt x="-1" y="4829"/>
                    </a:cubicBezTo>
                    <a:lnTo>
                      <a:pt x="21053" y="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Arc 107"/>
              <p:cNvSpPr/>
              <p:nvPr/>
            </p:nvSpPr>
            <p:spPr>
              <a:xfrm>
                <a:off x="4806720" y="2286000"/>
                <a:ext cx="495720" cy="578880"/>
              </a:xfrm>
              <a:custGeom>
                <a:avLst/>
                <a:gdLst>
                  <a:gd name="textAreaLeft" fmla="*/ 0 w 495720"/>
                  <a:gd name="textAreaRight" fmla="*/ 496080 w 495720"/>
                  <a:gd name="textAreaTop" fmla="*/ 0 h 578880"/>
                  <a:gd name="textAreaBottom" fmla="*/ 579240 h 578880"/>
                </a:gdLst>
                <a:ahLst/>
                <a:rect l="textAreaLeft" t="textAreaTop" r="textAreaRight" b="textAreaBottom"/>
                <a:pathLst>
                  <a:path fill="none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</a:path>
                  <a:path stroke="0" w="26114" h="32584">
                    <a:moveTo>
                      <a:pt x="-1" y="476"/>
                    </a:moveTo>
                    <a:cubicBezTo>
                      <a:pt x="1483" y="159"/>
                      <a:pt x="2996" y="-1"/>
                      <a:pt x="4514" y="0"/>
                    </a:cubicBezTo>
                    <a:cubicBezTo>
                      <a:pt x="16443" y="0"/>
                      <a:pt x="26114" y="9670"/>
                      <a:pt x="26114" y="21600"/>
                    </a:cubicBezTo>
                    <a:cubicBezTo>
                      <a:pt x="26114" y="25463"/>
                      <a:pt x="25077" y="29256"/>
                      <a:pt x="23112" y="32583"/>
                    </a:cubicBezTo>
                    <a:lnTo>
                      <a:pt x="4514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Arc 108"/>
              <p:cNvSpPr/>
              <p:nvPr/>
            </p:nvSpPr>
            <p:spPr>
              <a:xfrm>
                <a:off x="4808520" y="2294280"/>
                <a:ext cx="489240" cy="56844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fill="none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</a:path>
                  <a:path stroke="0" w="26080" h="32650">
                    <a:moveTo>
                      <a:pt x="-1" y="469"/>
                    </a:moveTo>
                    <a:cubicBezTo>
                      <a:pt x="1472" y="157"/>
                      <a:pt x="2974" y="-1"/>
                      <a:pt x="4480" y="0"/>
                    </a:cubicBezTo>
                    <a:cubicBezTo>
                      <a:pt x="16409" y="0"/>
                      <a:pt x="26080" y="9670"/>
                      <a:pt x="26080" y="21600"/>
                    </a:cubicBezTo>
                    <a:cubicBezTo>
                      <a:pt x="26080" y="25489"/>
                      <a:pt x="25029" y="29307"/>
                      <a:pt x="23039" y="32649"/>
                    </a:cubicBezTo>
                    <a:lnTo>
                      <a:pt x="4480" y="2160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Arc 109"/>
              <p:cNvSpPr/>
              <p:nvPr/>
            </p:nvSpPr>
            <p:spPr>
              <a:xfrm>
                <a:off x="4948200" y="2849760"/>
                <a:ext cx="468360" cy="576000"/>
              </a:xfrm>
              <a:custGeom>
                <a:avLst/>
                <a:gdLst>
                  <a:gd name="textAreaLeft" fmla="*/ 0 w 468360"/>
                  <a:gd name="textAreaRight" fmla="*/ 468720 w 468360"/>
                  <a:gd name="textAreaTop" fmla="*/ 0 h 576000"/>
                  <a:gd name="textAreaBottom" fmla="*/ 576360 h 576000"/>
                </a:gdLst>
                <a:ahLst/>
                <a:rect l="textAreaLeft" t="textAreaTop" r="textAreaRight" b="textAreaBottom"/>
                <a:pathLst>
                  <a:path fill="none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</a:path>
                  <a:path stroke="0" w="21600" h="29436">
                    <a:moveTo>
                      <a:pt x="13649" y="-1"/>
                    </a:moveTo>
                    <a:cubicBezTo>
                      <a:pt x="18680" y="4101"/>
                      <a:pt x="21600" y="10249"/>
                      <a:pt x="21600" y="16741"/>
                    </a:cubicBezTo>
                    <a:cubicBezTo>
                      <a:pt x="21600" y="21301"/>
                      <a:pt x="20156" y="25745"/>
                      <a:pt x="17475" y="29435"/>
                    </a:cubicBezTo>
                    <a:lnTo>
                      <a:pt x="0" y="1674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Arc 110"/>
              <p:cNvSpPr/>
              <p:nvPr/>
            </p:nvSpPr>
            <p:spPr>
              <a:xfrm>
                <a:off x="4948200" y="2855160"/>
                <a:ext cx="463320" cy="568440"/>
              </a:xfrm>
              <a:custGeom>
                <a:avLst/>
                <a:gdLst>
                  <a:gd name="textAreaLeft" fmla="*/ 0 w 463320"/>
                  <a:gd name="textAreaRight" fmla="*/ 463680 w 46332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fill="none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</a:path>
                  <a:path stroke="0" w="21600" h="29552">
                    <a:moveTo>
                      <a:pt x="13585" y="0"/>
                    </a:moveTo>
                    <a:cubicBezTo>
                      <a:pt x="18654" y="4101"/>
                      <a:pt x="21600" y="10272"/>
                      <a:pt x="21600" y="16793"/>
                    </a:cubicBezTo>
                    <a:cubicBezTo>
                      <a:pt x="21600" y="21381"/>
                      <a:pt x="20139" y="25849"/>
                      <a:pt x="17428" y="29551"/>
                    </a:cubicBezTo>
                    <a:lnTo>
                      <a:pt x="0" y="16793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Arc 111"/>
              <p:cNvSpPr/>
              <p:nvPr/>
            </p:nvSpPr>
            <p:spPr>
              <a:xfrm>
                <a:off x="4793040" y="3418200"/>
                <a:ext cx="550440" cy="826920"/>
              </a:xfrm>
              <a:custGeom>
                <a:avLst/>
                <a:gdLst>
                  <a:gd name="textAreaLeft" fmla="*/ 0 w 550440"/>
                  <a:gd name="textAreaRight" fmla="*/ 550800 w 550440"/>
                  <a:gd name="textAreaTop" fmla="*/ 0 h 826920"/>
                  <a:gd name="textAreaBottom" fmla="*/ 827280 h 826920"/>
                </a:gdLst>
                <a:ahLst/>
                <a:rect l="textAreaLeft" t="textAreaTop" r="textAreaRight" b="textAreaBottom"/>
                <a:pathLst>
                  <a:path fill="none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</a:path>
                  <a:path stroke="0" w="28628" h="27861">
                    <a:moveTo>
                      <a:pt x="27700" y="0"/>
                    </a:moveTo>
                    <a:cubicBezTo>
                      <a:pt x="28315" y="2030"/>
                      <a:pt x="28628" y="4139"/>
                      <a:pt x="28628" y="6261"/>
                    </a:cubicBezTo>
                    <a:cubicBezTo>
                      <a:pt x="28628" y="18190"/>
                      <a:pt x="18957" y="27861"/>
                      <a:pt x="7028" y="27861"/>
                    </a:cubicBezTo>
                    <a:cubicBezTo>
                      <a:pt x="4636" y="27861"/>
                      <a:pt x="2261" y="27463"/>
                      <a:pt x="0" y="26685"/>
                    </a:cubicBezTo>
                    <a:lnTo>
                      <a:pt x="7028" y="6261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Arc 112"/>
              <p:cNvSpPr/>
              <p:nvPr/>
            </p:nvSpPr>
            <p:spPr>
              <a:xfrm>
                <a:off x="4794840" y="3421440"/>
                <a:ext cx="543240" cy="816120"/>
              </a:xfrm>
              <a:custGeom>
                <a:avLst/>
                <a:gdLst>
                  <a:gd name="textAreaLeft" fmla="*/ 0 w 543240"/>
                  <a:gd name="textAreaRight" fmla="*/ 543600 w 543240"/>
                  <a:gd name="textAreaTop" fmla="*/ 0 h 816120"/>
                  <a:gd name="textAreaBottom" fmla="*/ 816480 h 816120"/>
                </a:gdLst>
                <a:ahLst/>
                <a:rect l="textAreaLeft" t="textAreaTop" r="textAreaRight" b="textAreaBottom"/>
                <a:pathLst>
                  <a:path fill="none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</a:path>
                  <a:path stroke="0" w="28628" h="27860">
                    <a:moveTo>
                      <a:pt x="27700" y="0"/>
                    </a:moveTo>
                    <a:cubicBezTo>
                      <a:pt x="28315" y="2029"/>
                      <a:pt x="28628" y="4139"/>
                      <a:pt x="28628" y="6260"/>
                    </a:cubicBezTo>
                    <a:cubicBezTo>
                      <a:pt x="28628" y="18189"/>
                      <a:pt x="18957" y="27860"/>
                      <a:pt x="7028" y="27860"/>
                    </a:cubicBezTo>
                    <a:cubicBezTo>
                      <a:pt x="4636" y="27860"/>
                      <a:pt x="2261" y="27462"/>
                      <a:pt x="0" y="26684"/>
                    </a:cubicBezTo>
                    <a:lnTo>
                      <a:pt x="7028" y="6260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Arc 113"/>
              <p:cNvSpPr/>
              <p:nvPr/>
            </p:nvSpPr>
            <p:spPr>
              <a:xfrm>
                <a:off x="2887560" y="2849760"/>
                <a:ext cx="298080" cy="77940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79400"/>
                  <a:gd name="textAreaBottom" fmla="*/ 779760 h 779400"/>
                </a:gdLst>
                <a:ahLst/>
                <a:rect l="textAreaLeft" t="textAreaTop" r="textAreaRight" b="textAreaBottom"/>
                <a:pathLst>
                  <a:path fill="none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</a:path>
                  <a:path stroke="0" w="21600" h="41258">
                    <a:moveTo>
                      <a:pt x="12761" y="41258"/>
                    </a:moveTo>
                    <a:cubicBezTo>
                      <a:pt x="4996" y="37776"/>
                      <a:pt x="0" y="30059"/>
                      <a:pt x="0" y="21549"/>
                    </a:cubicBezTo>
                    <a:cubicBezTo>
                      <a:pt x="-1" y="10196"/>
                      <a:pt x="8787" y="781"/>
                      <a:pt x="20113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Arc 114"/>
              <p:cNvSpPr/>
              <p:nvPr/>
            </p:nvSpPr>
            <p:spPr>
              <a:xfrm>
                <a:off x="2892960" y="2857320"/>
                <a:ext cx="292680" cy="76428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fill="none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</a:path>
                  <a:path stroke="0" w="21600" h="41265">
                    <a:moveTo>
                      <a:pt x="12777" y="41264"/>
                    </a:moveTo>
                    <a:cubicBezTo>
                      <a:pt x="5003" y="37786"/>
                      <a:pt x="0" y="30065"/>
                      <a:pt x="0" y="21549"/>
                    </a:cubicBezTo>
                    <a:cubicBezTo>
                      <a:pt x="-1" y="10195"/>
                      <a:pt x="8789" y="780"/>
                      <a:pt x="20116" y="0"/>
                    </a:cubicBezTo>
                    <a:lnTo>
                      <a:pt x="21600" y="21549"/>
                    </a:lnTo>
                    <a:close/>
                  </a:path>
                </a:pathLst>
              </a:custGeom>
              <a:solidFill>
                <a:srgbClr val="cedadb"/>
              </a:solidFill>
              <a:ln w="11160">
                <a:solidFill>
                  <a:srgbClr val="6c8f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85" name="Object 3"/>
          <p:cNvGraphicFramePr/>
          <p:nvPr/>
        </p:nvGraphicFramePr>
        <p:xfrm>
          <a:off x="7899480" y="2743200"/>
          <a:ext cx="76356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9480" y="2743200"/>
                    <a:ext cx="763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116"/>
          <p:cNvSpPr/>
          <p:nvPr/>
        </p:nvSpPr>
        <p:spPr>
          <a:xfrm>
            <a:off x="3206880" y="2851200"/>
            <a:ext cx="1784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400" spc="-1" strike="noStrike">
                <a:solidFill>
                  <a:srgbClr val="680000"/>
                </a:solidFill>
                <a:latin typeface="Times New Roman"/>
              </a:rPr>
              <a:t>Service Providers VP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117" descr=""/>
          <p:cNvPicPr/>
          <p:nvPr/>
        </p:nvPicPr>
        <p:blipFill>
          <a:blip r:embed="rId5"/>
          <a:stretch/>
        </p:blipFill>
        <p:spPr>
          <a:xfrm>
            <a:off x="1954080" y="1844640"/>
            <a:ext cx="311400" cy="16848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489" name="Text Box 118"/>
          <p:cNvSpPr/>
          <p:nvPr/>
        </p:nvSpPr>
        <p:spPr>
          <a:xfrm>
            <a:off x="1181160" y="1981080"/>
            <a:ext cx="106524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K Univ., Madura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19"/>
          <p:cNvSpPr/>
          <p:nvPr/>
        </p:nvSpPr>
        <p:spPr>
          <a:xfrm>
            <a:off x="3733920" y="6218280"/>
            <a:ext cx="895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ISc, Banga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20"/>
          <p:cNvSpPr/>
          <p:nvPr/>
        </p:nvSpPr>
        <p:spPr>
          <a:xfrm>
            <a:off x="2192400" y="2036880"/>
            <a:ext cx="990360" cy="62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21"/>
          <p:cNvSpPr/>
          <p:nvPr/>
        </p:nvSpPr>
        <p:spPr>
          <a:xfrm>
            <a:off x="4645080" y="6149880"/>
            <a:ext cx="10033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BRC, Gurga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Object 4"/>
          <p:cNvGraphicFramePr/>
          <p:nvPr/>
        </p:nvGraphicFramePr>
        <p:xfrm>
          <a:off x="1120680" y="2889360"/>
          <a:ext cx="64476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20680" y="2889360"/>
                    <a:ext cx="6447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5" name="Picture 123" descr=""/>
          <p:cNvPicPr/>
          <p:nvPr/>
        </p:nvPicPr>
        <p:blipFill>
          <a:blip r:embed="rId8"/>
          <a:stretch/>
        </p:blipFill>
        <p:spPr>
          <a:xfrm>
            <a:off x="1589040" y="3268800"/>
            <a:ext cx="365040" cy="18072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496" name="Line 124"/>
          <p:cNvSpPr/>
          <p:nvPr/>
        </p:nvSpPr>
        <p:spPr>
          <a:xfrm flipV="1">
            <a:off x="2014560" y="3208320"/>
            <a:ext cx="873000" cy="17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Object 5"/>
          <p:cNvGraphicFramePr/>
          <p:nvPr/>
        </p:nvGraphicFramePr>
        <p:xfrm>
          <a:off x="1060560" y="4070520"/>
          <a:ext cx="64584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60560" y="4070520"/>
                    <a:ext cx="6458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9" name="Picture 126" descr=""/>
          <p:cNvPicPr/>
          <p:nvPr/>
        </p:nvPicPr>
        <p:blipFill>
          <a:blip r:embed="rId11"/>
          <a:stretch/>
        </p:blipFill>
        <p:spPr>
          <a:xfrm flipH="1" rot="10800000">
            <a:off x="1589040" y="4296960"/>
            <a:ext cx="365040" cy="2444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500" name="Text Box 127"/>
          <p:cNvSpPr/>
          <p:nvPr/>
        </p:nvSpPr>
        <p:spPr>
          <a:xfrm>
            <a:off x="762120" y="3451320"/>
            <a:ext cx="10620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MT, Chandigar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28"/>
          <p:cNvSpPr/>
          <p:nvPr/>
        </p:nvSpPr>
        <p:spPr>
          <a:xfrm>
            <a:off x="642960" y="5751360"/>
            <a:ext cx="124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DFD, Hyderab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29"/>
          <p:cNvSpPr/>
          <p:nvPr/>
        </p:nvSpPr>
        <p:spPr>
          <a:xfrm>
            <a:off x="703440" y="4662360"/>
            <a:ext cx="8269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v. of Pu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6"/>
          <p:cNvGraphicFramePr/>
          <p:nvPr/>
        </p:nvGraphicFramePr>
        <p:xfrm>
          <a:off x="2986200" y="5791320"/>
          <a:ext cx="768240" cy="72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04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86200" y="5791320"/>
                    <a:ext cx="768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7"/>
          <p:cNvGraphicFramePr/>
          <p:nvPr/>
        </p:nvGraphicFramePr>
        <p:xfrm>
          <a:off x="4583160" y="5384880"/>
          <a:ext cx="768240" cy="71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06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83160" y="5384880"/>
                    <a:ext cx="768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8"/>
          <p:cNvGraphicFramePr/>
          <p:nvPr/>
        </p:nvGraphicFramePr>
        <p:xfrm>
          <a:off x="6235560" y="1533600"/>
          <a:ext cx="662040" cy="617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08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35560" y="1533600"/>
                    <a:ext cx="66204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Line 133"/>
          <p:cNvSpPr/>
          <p:nvPr/>
        </p:nvSpPr>
        <p:spPr>
          <a:xfrm flipH="1" flipV="1">
            <a:off x="4862160" y="4268880"/>
            <a:ext cx="111240" cy="11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34"/>
          <p:cNvSpPr/>
          <p:nvPr/>
        </p:nvSpPr>
        <p:spPr>
          <a:xfrm>
            <a:off x="7684920" y="3581280"/>
            <a:ext cx="1298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ptt. Of Biotecdhnology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35"/>
          <p:cNvSpPr/>
          <p:nvPr/>
        </p:nvSpPr>
        <p:spPr>
          <a:xfrm flipH="1">
            <a:off x="2001960" y="3935520"/>
            <a:ext cx="123984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36"/>
          <p:cNvSpPr/>
          <p:nvPr/>
        </p:nvSpPr>
        <p:spPr>
          <a:xfrm flipH="1">
            <a:off x="2014560" y="4056120"/>
            <a:ext cx="1582560" cy="132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37"/>
          <p:cNvSpPr/>
          <p:nvPr/>
        </p:nvSpPr>
        <p:spPr>
          <a:xfrm flipH="1">
            <a:off x="3597120" y="4359240"/>
            <a:ext cx="47160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38" descr=""/>
          <p:cNvPicPr/>
          <p:nvPr/>
        </p:nvPicPr>
        <p:blipFill>
          <a:blip r:embed="rId18"/>
          <a:stretch/>
        </p:blipFill>
        <p:spPr>
          <a:xfrm flipH="1" rot="10800000">
            <a:off x="7561440" y="31237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graphicFrame>
        <p:nvGraphicFramePr>
          <p:cNvPr id="515" name="Object 9"/>
          <p:cNvGraphicFramePr/>
          <p:nvPr/>
        </p:nvGraphicFramePr>
        <p:xfrm>
          <a:off x="6978600" y="5627520"/>
          <a:ext cx="827280" cy="773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6" name="Object 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78600" y="5627520"/>
                    <a:ext cx="8272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10"/>
          <p:cNvGraphicFramePr/>
          <p:nvPr/>
        </p:nvGraphicFramePr>
        <p:xfrm>
          <a:off x="5722920" y="5562720"/>
          <a:ext cx="827280" cy="77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8" name="Object 1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2920" y="5562720"/>
                    <a:ext cx="827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11"/>
          <p:cNvGraphicFramePr/>
          <p:nvPr/>
        </p:nvGraphicFramePr>
        <p:xfrm>
          <a:off x="7734240" y="1501920"/>
          <a:ext cx="646200" cy="603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20" name="Object 1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734240" y="1501920"/>
                    <a:ext cx="6462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Line 142"/>
          <p:cNvSpPr/>
          <p:nvPr/>
        </p:nvSpPr>
        <p:spPr>
          <a:xfrm flipH="1" flipV="1">
            <a:off x="5351400" y="3578040"/>
            <a:ext cx="905040" cy="174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3"/>
          <p:cNvSpPr/>
          <p:nvPr/>
        </p:nvSpPr>
        <p:spPr>
          <a:xfrm flipV="1">
            <a:off x="5410080" y="2437920"/>
            <a:ext cx="927360" cy="114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4"/>
          <p:cNvSpPr/>
          <p:nvPr/>
        </p:nvSpPr>
        <p:spPr>
          <a:xfrm flipV="1">
            <a:off x="5322960" y="2360520"/>
            <a:ext cx="2290680" cy="13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45"/>
          <p:cNvSpPr/>
          <p:nvPr/>
        </p:nvSpPr>
        <p:spPr>
          <a:xfrm>
            <a:off x="5860080" y="6357960"/>
            <a:ext cx="683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NU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46"/>
          <p:cNvSpPr/>
          <p:nvPr/>
        </p:nvSpPr>
        <p:spPr>
          <a:xfrm>
            <a:off x="7788600" y="6153120"/>
            <a:ext cx="632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I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47"/>
          <p:cNvSpPr/>
          <p:nvPr/>
        </p:nvSpPr>
        <p:spPr>
          <a:xfrm>
            <a:off x="7930440" y="2138400"/>
            <a:ext cx="709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GIB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8"/>
          <p:cNvSpPr/>
          <p:nvPr/>
        </p:nvSpPr>
        <p:spPr>
          <a:xfrm>
            <a:off x="6657840" y="2182680"/>
            <a:ext cx="827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th Campu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U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49"/>
          <p:cNvSpPr/>
          <p:nvPr/>
        </p:nvSpPr>
        <p:spPr>
          <a:xfrm flipV="1">
            <a:off x="5638680" y="3200040"/>
            <a:ext cx="1981440" cy="46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50"/>
          <p:cNvSpPr/>
          <p:nvPr/>
        </p:nvSpPr>
        <p:spPr>
          <a:xfrm>
            <a:off x="4516560" y="946080"/>
            <a:ext cx="109476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2100" spc="-1" strike="noStrike">
                <a:solidFill>
                  <a:srgbClr val="680000"/>
                </a:solidFill>
                <a:latin typeface="Times New Roman"/>
              </a:rPr>
              <a:t>Intern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51" descr=""/>
          <p:cNvPicPr/>
          <p:nvPr/>
        </p:nvPicPr>
        <p:blipFill>
          <a:blip r:embed="rId25"/>
          <a:stretch/>
        </p:blipFill>
        <p:spPr>
          <a:xfrm flipH="1" rot="10800000">
            <a:off x="601560" y="6199200"/>
            <a:ext cx="406440" cy="13176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531" name="Text Box 152"/>
          <p:cNvSpPr/>
          <p:nvPr/>
        </p:nvSpPr>
        <p:spPr>
          <a:xfrm>
            <a:off x="1083960" y="61167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Object 12"/>
          <p:cNvGraphicFramePr/>
          <p:nvPr/>
        </p:nvGraphicFramePr>
        <p:xfrm>
          <a:off x="1203480" y="5029200"/>
          <a:ext cx="768240" cy="7207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33" name="Object 12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03480" y="5029200"/>
                    <a:ext cx="768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13"/>
          <p:cNvGraphicFramePr/>
          <p:nvPr/>
        </p:nvGraphicFramePr>
        <p:xfrm>
          <a:off x="7899480" y="4105440"/>
          <a:ext cx="763560" cy="7142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35" name="Object 13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899480" y="4105440"/>
                    <a:ext cx="763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Text Box 155"/>
          <p:cNvSpPr/>
          <p:nvPr/>
        </p:nvSpPr>
        <p:spPr>
          <a:xfrm>
            <a:off x="7684920" y="4876920"/>
            <a:ext cx="1298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IT, , Del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156" descr=""/>
          <p:cNvPicPr/>
          <p:nvPr/>
        </p:nvPicPr>
        <p:blipFill>
          <a:blip r:embed="rId30"/>
          <a:stretch/>
        </p:blipFill>
        <p:spPr>
          <a:xfrm flipH="1" rot="10800000">
            <a:off x="7539120" y="4343400"/>
            <a:ext cx="355680" cy="2030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38" name="Picture 157" descr=""/>
          <p:cNvPicPr/>
          <p:nvPr/>
        </p:nvPicPr>
        <p:blipFill>
          <a:blip r:embed="rId31"/>
          <a:stretch/>
        </p:blipFill>
        <p:spPr>
          <a:xfrm flipH="1" rot="10800000">
            <a:off x="7139160" y="54097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39" name="Picture 158" descr=""/>
          <p:cNvPicPr/>
          <p:nvPr/>
        </p:nvPicPr>
        <p:blipFill>
          <a:blip r:embed="rId32"/>
          <a:stretch/>
        </p:blipFill>
        <p:spPr>
          <a:xfrm flipH="1" rot="10800000">
            <a:off x="7539120" y="2158560"/>
            <a:ext cx="3556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0" name="Picture 159" descr=""/>
          <p:cNvPicPr/>
          <p:nvPr/>
        </p:nvPicPr>
        <p:blipFill>
          <a:blip r:embed="rId33"/>
          <a:stretch/>
        </p:blipFill>
        <p:spPr>
          <a:xfrm flipH="1" rot="10800000">
            <a:off x="6265800" y="2158560"/>
            <a:ext cx="3556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sp>
        <p:nvSpPr>
          <p:cNvPr id="541" name="Line 160"/>
          <p:cNvSpPr/>
          <p:nvPr/>
        </p:nvSpPr>
        <p:spPr>
          <a:xfrm flipH="1" flipV="1">
            <a:off x="5511600" y="3730320"/>
            <a:ext cx="1787400" cy="167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61" descr=""/>
          <p:cNvPicPr/>
          <p:nvPr/>
        </p:nvPicPr>
        <p:blipFill>
          <a:blip r:embed="rId34"/>
          <a:stretch/>
        </p:blipFill>
        <p:spPr>
          <a:xfrm>
            <a:off x="4849920" y="3390840"/>
            <a:ext cx="884160" cy="48276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3" name="Picture 162" descr=""/>
          <p:cNvPicPr/>
          <p:nvPr/>
        </p:nvPicPr>
        <p:blipFill>
          <a:blip r:embed="rId35"/>
          <a:stretch/>
        </p:blipFill>
        <p:spPr>
          <a:xfrm flipH="1" rot="10800000">
            <a:off x="6095880" y="5334120"/>
            <a:ext cx="354240" cy="20304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4" name="Picture 163" descr=""/>
          <p:cNvPicPr/>
          <p:nvPr/>
        </p:nvPicPr>
        <p:blipFill>
          <a:blip r:embed="rId36"/>
          <a:stretch/>
        </p:blipFill>
        <p:spPr>
          <a:xfrm flipH="1" rot="10800000">
            <a:off x="4780080" y="51811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5" name="Picture 164" descr=""/>
          <p:cNvPicPr/>
          <p:nvPr/>
        </p:nvPicPr>
        <p:blipFill>
          <a:blip r:embed="rId37"/>
          <a:stretch/>
        </p:blipFill>
        <p:spPr>
          <a:xfrm flipH="1" rot="10800000">
            <a:off x="3335400" y="558756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6" name="Picture 165" descr=""/>
          <p:cNvPicPr/>
          <p:nvPr/>
        </p:nvPicPr>
        <p:blipFill>
          <a:blip r:embed="rId38"/>
          <a:stretch/>
        </p:blipFill>
        <p:spPr>
          <a:xfrm flipH="1" rot="10800000">
            <a:off x="1925640" y="5181120"/>
            <a:ext cx="353880" cy="203400"/>
          </a:xfrm>
          <a:prstGeom prst="rect">
            <a:avLst/>
          </a:prstGeom>
          <a:ln w="12600">
            <a:solidFill>
              <a:srgbClr val="000000"/>
            </a:solidFill>
            <a:prstDash val="sysDot"/>
            <a:miter/>
          </a:ln>
        </p:spPr>
      </p:pic>
      <p:pic>
        <p:nvPicPr>
          <p:cNvPr id="547" name="Picture 167" descr="grecobud3"/>
          <p:cNvPicPr/>
          <p:nvPr/>
        </p:nvPicPr>
        <p:blipFill>
          <a:blip r:embed="rId39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68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5" descr="grecobud3"/>
          <p:cNvPicPr/>
          <p:nvPr/>
        </p:nvPicPr>
        <p:blipFill>
          <a:blip r:embed="rId40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Object 2"/>
          <p:cNvGraphicFramePr/>
          <p:nvPr/>
        </p:nvGraphicFramePr>
        <p:xfrm>
          <a:off x="1739880" y="1238400"/>
          <a:ext cx="482616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9880" y="1238400"/>
                    <a:ext cx="48261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4"/>
          <p:cNvSpPr/>
          <p:nvPr/>
        </p:nvSpPr>
        <p:spPr>
          <a:xfrm>
            <a:off x="3040920" y="228600"/>
            <a:ext cx="281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 Black"/>
              </a:rPr>
              <a:t>LIN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5" descr="grecobud3"/>
          <p:cNvPicPr/>
          <p:nvPr/>
        </p:nvPicPr>
        <p:blipFill>
          <a:blip r:embed="rId3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4800600" y="1981080"/>
            <a:ext cx="3886200" cy="412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MTECH, Chandigar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IISc. Bangalo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University of Pune, P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248520" y="1219320"/>
            <a:ext cx="18288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80880" y="1981080"/>
            <a:ext cx="3886200" cy="4374720"/>
          </a:xfrm>
          <a:prstGeom prst="rect">
            <a:avLst/>
          </a:prstGeom>
          <a:solidFill>
            <a:srgbClr val="ffd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MHCBN: Db of binding and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    nonbonding peptides to MH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http://www.imtech.res.in/raghava/mhcb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CADB: Conformation angles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    db of Proteins http://cluster.physics.iisc.ernet.in/cadb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VirGen: A comprehensive</a:t>
            </a:r>
            <a:br>
              <a:rPr sz="1800"/>
            </a:b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  viral genome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  <a:ea typeface="Times New Roman"/>
              </a:rPr>
              <a:t>http://115.111.37.206/virgen/virgen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371600" y="1219320"/>
            <a:ext cx="17524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ba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6094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Database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5" descr="grecobud3"/>
          <p:cNvPicPr/>
          <p:nvPr/>
        </p:nvPicPr>
        <p:blipFill>
          <a:blip r:embed="rId1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1026" descr=""/>
          <p:cNvPicPr/>
          <p:nvPr/>
        </p:nvPicPr>
        <p:blipFill>
          <a:blip r:embed="rId1"/>
          <a:stretch/>
        </p:blipFill>
        <p:spPr>
          <a:xfrm>
            <a:off x="682560" y="-152280"/>
            <a:ext cx="7785000" cy="14446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151920" y="1523520"/>
            <a:ext cx="487692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SP (Protein structure prediction), MHCB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tech.res.in/raghava/apssp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mtech.res.in/raghava/mhcbn/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Gen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ttp://115.111.37.206/virgen/virgen.asp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Micro array analysi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dis</a:t>
            </a:r>
            <a:r>
              <a:rPr b="1" lang="en-US" sz="24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5280" indent="-485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http://www.avadis-ngs.com</a:t>
            </a:r>
            <a:r>
              <a:rPr b="1" lang="en-US" sz="2000" spc="-1" strike="noStrike">
                <a:solidFill>
                  <a:srgbClr val="60b5cc"/>
                </a:solidFill>
                <a:latin typeface="Times New Roman"/>
                <a:ea typeface="Times New Roman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Rectangle 1029"/>
          <p:cNvSpPr/>
          <p:nvPr/>
        </p:nvSpPr>
        <p:spPr>
          <a:xfrm>
            <a:off x="510552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TECH, Chandiga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Pune, P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nd Genomics, Bang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Research Areas in Bioinforma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roposed Areas of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Object 0"/>
          <p:cNvGraphicFramePr/>
          <p:nvPr/>
        </p:nvGraphicFramePr>
        <p:xfrm>
          <a:off x="1363680" y="1523880"/>
          <a:ext cx="6978600" cy="41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1523880"/>
                    <a:ext cx="69786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Text Box 4"/>
          <p:cNvSpPr/>
          <p:nvPr/>
        </p:nvSpPr>
        <p:spPr>
          <a:xfrm>
            <a:off x="637560" y="5802480"/>
            <a:ext cx="76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umber of Research Publications in last Five  years is &gt;3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4572000" y="449568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085840" y="4495680"/>
            <a:ext cx="5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3689280" y="464832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5294160" y="4267080"/>
            <a:ext cx="5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454720" y="335268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4572000" y="304812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2567160" y="2971800"/>
            <a:ext cx="5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3449520" y="2879640"/>
            <a:ext cx="56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6014880" y="4387680"/>
            <a:ext cx="2006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. Of Dis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5" descr="grecobud3"/>
          <p:cNvPicPr/>
          <p:nvPr/>
        </p:nvPicPr>
        <p:blipFill>
          <a:blip r:embed="rId3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6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5" descr="grecobud3"/>
          <p:cNvPicPr/>
          <p:nvPr/>
        </p:nvPicPr>
        <p:blipFill>
          <a:blip r:embed="rId4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2"/>
          <p:cNvSpPr/>
          <p:nvPr/>
        </p:nvSpPr>
        <p:spPr>
          <a:xfrm>
            <a:off x="685800" y="2286000"/>
            <a:ext cx="2438280" cy="5335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"/>
          <p:cNvSpPr/>
          <p:nvPr/>
        </p:nvSpPr>
        <p:spPr>
          <a:xfrm>
            <a:off x="0" y="3429000"/>
            <a:ext cx="2362320" cy="990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"/>
          <p:cNvSpPr/>
          <p:nvPr/>
        </p:nvSpPr>
        <p:spPr>
          <a:xfrm>
            <a:off x="914400" y="4800600"/>
            <a:ext cx="2666880" cy="7621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5"/>
          <p:cNvSpPr/>
          <p:nvPr/>
        </p:nvSpPr>
        <p:spPr>
          <a:xfrm>
            <a:off x="3505320" y="5257800"/>
            <a:ext cx="2743200" cy="5335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6"/>
          <p:cNvSpPr/>
          <p:nvPr/>
        </p:nvSpPr>
        <p:spPr>
          <a:xfrm>
            <a:off x="6248520" y="4648320"/>
            <a:ext cx="2514600" cy="83808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7"/>
          <p:cNvSpPr/>
          <p:nvPr/>
        </p:nvSpPr>
        <p:spPr>
          <a:xfrm>
            <a:off x="7391520" y="3429000"/>
            <a:ext cx="1752480" cy="9144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8"/>
          <p:cNvSpPr/>
          <p:nvPr/>
        </p:nvSpPr>
        <p:spPr>
          <a:xfrm>
            <a:off x="6172200" y="2209680"/>
            <a:ext cx="2209680" cy="990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9"/>
          <p:cNvSpPr/>
          <p:nvPr/>
        </p:nvSpPr>
        <p:spPr>
          <a:xfrm>
            <a:off x="3809880" y="1752480"/>
            <a:ext cx="1828800" cy="60984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0"/>
          <p:cNvSpPr/>
          <p:nvPr/>
        </p:nvSpPr>
        <p:spPr>
          <a:xfrm>
            <a:off x="4572000" y="236232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1"/>
          <p:cNvSpPr/>
          <p:nvPr/>
        </p:nvSpPr>
        <p:spPr>
          <a:xfrm rot="1800000">
            <a:off x="3428640" y="41911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2"/>
          <p:cNvSpPr/>
          <p:nvPr/>
        </p:nvSpPr>
        <p:spPr>
          <a:xfrm rot="2700000">
            <a:off x="5257440" y="441972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3"/>
          <p:cNvSpPr/>
          <p:nvPr/>
        </p:nvSpPr>
        <p:spPr>
          <a:xfrm rot="19200000">
            <a:off x="3276720" y="2514240"/>
            <a:ext cx="342720" cy="1143000"/>
          </a:xfrm>
          <a:prstGeom prst="upArrow">
            <a:avLst>
              <a:gd name="adj1" fmla="val 50000"/>
              <a:gd name="adj2" fmla="val 8337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14"/>
          <p:cNvSpPr/>
          <p:nvPr/>
        </p:nvSpPr>
        <p:spPr>
          <a:xfrm>
            <a:off x="2362320" y="3733920"/>
            <a:ext cx="1066680" cy="304560"/>
          </a:xfrm>
          <a:prstGeom prst="leftArrow">
            <a:avLst>
              <a:gd name="adj1" fmla="val 50000"/>
              <a:gd name="adj2" fmla="val 112578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6172200" y="365760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16"/>
          <p:cNvSpPr/>
          <p:nvPr/>
        </p:nvSpPr>
        <p:spPr>
          <a:xfrm rot="1800000">
            <a:off x="5866920" y="259092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17"/>
          <p:cNvSpPr/>
          <p:nvPr/>
        </p:nvSpPr>
        <p:spPr>
          <a:xfrm>
            <a:off x="3048120" y="3352680"/>
            <a:ext cx="3352680" cy="99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3276720" y="3657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mSprings"/>
              </a:rPr>
              <a:t>BIOINFORAM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3429000" y="1889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IT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20"/>
          <p:cNvSpPr/>
          <p:nvPr/>
        </p:nvSpPr>
        <p:spPr>
          <a:xfrm>
            <a:off x="4572000" y="434340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3581280" y="53341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Biotech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54380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Pharma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81000" y="3505320"/>
            <a:ext cx="23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Academic &amp; R&amp;D I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641520" y="234648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oftware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6213600" y="22860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ospitals for Clinical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176880" y="486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ealth Car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990720" y="4937040"/>
            <a:ext cx="27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ardware Sup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8"/>
          <p:cNvSpPr/>
          <p:nvPr/>
        </p:nvSpPr>
        <p:spPr>
          <a:xfrm>
            <a:off x="38088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a6378"/>
                </a:solidFill>
                <a:latin typeface="Times New Roman"/>
              </a:rPr>
              <a:t>Strategic alliance &amp; Partnership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Created by Dr. Gulshan Wadhwa, D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77CF-EE99-4F6F-8784-56CDAB9F003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ata archival and retrieval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bases, LIMS, experimental autom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oss-species comparison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riments in yeast are easier than in mic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they are easier than in hum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ole Genome characterizatio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nctional annotation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rug desig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tein/ligand interaction studi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ing inhibitor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king, structural model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3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304920" y="1676520"/>
            <a:ext cx="8305560" cy="3733560"/>
          </a:xfrm>
          <a:prstGeom prst="wedgeEllipseCallout">
            <a:avLst>
              <a:gd name="adj1" fmla="val 796"/>
              <a:gd name="adj2" fmla="val 76916"/>
            </a:avLst>
          </a:prstGeom>
          <a:solidFill>
            <a:srgbClr val="c4e2c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22860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Need of Tie ups between Wet &amp; In-Silico La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152280" y="3124080"/>
            <a:ext cx="3886200" cy="20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Wet Lab Experiments(High throughput technologies</a:t>
            </a:r>
            <a:r>
              <a:rPr b="1" lang="en-US" sz="2000" spc="-1" strike="noStrike">
                <a:solidFill>
                  <a:srgbClr val="0066ff"/>
                </a:solidFill>
                <a:latin typeface="PalmSpring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257800" y="3200400"/>
            <a:ext cx="3886200" cy="181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In-Silico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(Bioinformat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3657600" y="4795920"/>
            <a:ext cx="1828800" cy="352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lmSprings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PalmSprings"/>
              </a:rPr>
              <a:t>Discov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PalmSprings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7"/>
          <p:cNvSpPr/>
          <p:nvPr/>
        </p:nvSpPr>
        <p:spPr>
          <a:xfrm flipV="1">
            <a:off x="4876920" y="1523880"/>
            <a:ext cx="3045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4876920" y="16765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3352680" y="51055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200400" y="533376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600200" y="198108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1676520" y="2133360"/>
            <a:ext cx="30456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6324480" y="5029200"/>
            <a:ext cx="2286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4"/>
          <p:cNvSpPr/>
          <p:nvPr/>
        </p:nvSpPr>
        <p:spPr>
          <a:xfrm flipH="1">
            <a:off x="6476760" y="518148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5"/>
          <p:cNvSpPr/>
          <p:nvPr/>
        </p:nvSpPr>
        <p:spPr>
          <a:xfrm flipH="1">
            <a:off x="5943600" y="5105520"/>
            <a:ext cx="763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5943600" y="5334120"/>
            <a:ext cx="2286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4114800" y="3429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8"/>
          <p:cNvSpPr/>
          <p:nvPr/>
        </p:nvSpPr>
        <p:spPr>
          <a:xfrm>
            <a:off x="4114800" y="37339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0"/>
          <p:cNvSpPr/>
          <p:nvPr/>
        </p:nvSpPr>
        <p:spPr>
          <a:xfrm>
            <a:off x="4114800" y="37339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76320" y="299880"/>
            <a:ext cx="8989560" cy="6071040"/>
            <a:chOff x="76320" y="299880"/>
            <a:chExt cx="8989560" cy="6071040"/>
          </a:xfrm>
        </p:grpSpPr>
        <p:grpSp>
          <p:nvGrpSpPr>
            <p:cNvPr id="317" name="Group 3"/>
            <p:cNvGrpSpPr/>
            <p:nvPr/>
          </p:nvGrpSpPr>
          <p:grpSpPr>
            <a:xfrm>
              <a:off x="76320" y="299880"/>
              <a:ext cx="8989560" cy="6071040"/>
              <a:chOff x="76320" y="299880"/>
              <a:chExt cx="8989560" cy="6071040"/>
            </a:xfrm>
          </p:grpSpPr>
          <p:sp>
            <p:nvSpPr>
              <p:cNvPr id="318" name="Text Box 4"/>
              <p:cNvSpPr/>
              <p:nvPr/>
            </p:nvSpPr>
            <p:spPr>
              <a:xfrm>
                <a:off x="76320" y="299880"/>
                <a:ext cx="2361240" cy="1907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0b5c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Agricul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r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Aquacultu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Sericultur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fertiliz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pestici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5"/>
              <p:cNvSpPr/>
              <p:nvPr/>
            </p:nvSpPr>
            <p:spPr>
              <a:xfrm>
                <a:off x="76320" y="4879800"/>
                <a:ext cx="2437560" cy="1365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0040" indent="-230040">
                  <a:lnSpc>
                    <a:spcPct val="10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Environ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remed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Pollution abate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onserv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6"/>
              <p:cNvSpPr/>
              <p:nvPr/>
            </p:nvSpPr>
            <p:spPr>
              <a:xfrm>
                <a:off x="2590200" y="303840"/>
                <a:ext cx="1828440" cy="141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Human Resource Develop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0b5cc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Text Box 8"/>
              <p:cNvSpPr/>
              <p:nvPr/>
            </p:nvSpPr>
            <p:spPr>
              <a:xfrm>
                <a:off x="76320" y="2187720"/>
                <a:ext cx="2361240" cy="642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Societal Develop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6704640" y="2658600"/>
                <a:ext cx="2361240" cy="7855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Genomic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Text Box 10"/>
              <p:cNvSpPr/>
              <p:nvPr/>
            </p:nvSpPr>
            <p:spPr>
              <a:xfrm>
                <a:off x="6704640" y="303840"/>
                <a:ext cx="2361240" cy="22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73160" indent="-173160">
                  <a:lnSpc>
                    <a:spcPct val="10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0b5c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Medical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Diagnostic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Vaccin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Infectious disease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Cancer and    chronic diseas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73160" indent="-17316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Stem Ce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1"/>
              <p:cNvSpPr/>
              <p:nvPr/>
            </p:nvSpPr>
            <p:spPr>
              <a:xfrm>
                <a:off x="6704640" y="3397320"/>
                <a:ext cx="2361240" cy="2968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30040" indent="-230040">
                  <a:lnSpc>
                    <a:spcPct val="10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ioresour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Forest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Pla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Animal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Medicinal &amp; Aromatic pla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Microb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prospec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30040" indent="-23004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fu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Text Box 12"/>
              <p:cNvSpPr/>
              <p:nvPr/>
            </p:nvSpPr>
            <p:spPr>
              <a:xfrm>
                <a:off x="4342680" y="4878720"/>
                <a:ext cx="2209320" cy="1295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spcAft>
                    <a:spcPts val="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Arial"/>
                  </a:rPr>
                  <a:t>Biosafety guidelines,        regulation and IP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99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Text Box 13"/>
              <p:cNvSpPr/>
              <p:nvPr/>
            </p:nvSpPr>
            <p:spPr>
              <a:xfrm>
                <a:off x="2666160" y="4878720"/>
                <a:ext cx="1523880" cy="1492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99"/>
                    </a:solidFill>
                    <a:latin typeface="Arial"/>
                  </a:rPr>
                  <a:t>Food &amp; Nutrition Security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Text Box 14"/>
              <p:cNvSpPr/>
              <p:nvPr/>
            </p:nvSpPr>
            <p:spPr>
              <a:xfrm>
                <a:off x="76320" y="2994840"/>
                <a:ext cx="2361240" cy="18918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90000"/>
                  </a:lnSpc>
                  <a:spcBef>
                    <a:spcPts val="7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asic Scienc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9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material and dev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Bioenginee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RNA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spcBef>
                    <a:spcPts val="700"/>
                  </a:spcBef>
                  <a:buClr>
                    <a:srgbClr val="ff00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Arial"/>
                  </a:rPr>
                  <a:t>Nanobiotechnolog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2971080" y="2658600"/>
                <a:ext cx="3047400" cy="1479600"/>
              </a:xfrm>
              <a:custGeom>
                <a:avLst/>
                <a:gdLst>
                  <a:gd name="textAreaLeft" fmla="*/ 695520 w 3047400"/>
                  <a:gd name="textAreaRight" fmla="*/ 2351880 w 3047400"/>
                  <a:gd name="textAreaTop" fmla="*/ 337680 h 1479600"/>
                  <a:gd name="textAreaBottom" fmla="*/ 1141920 h 147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0ad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7"/>
              <p:cNvSpPr/>
              <p:nvPr/>
            </p:nvSpPr>
            <p:spPr>
              <a:xfrm rot="1405200">
                <a:off x="3774240" y="1470240"/>
                <a:ext cx="3457080" cy="16329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ioinformati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16"/>
            <p:cNvSpPr/>
            <p:nvPr/>
          </p:nvSpPr>
          <p:spPr>
            <a:xfrm>
              <a:off x="3428280" y="3074760"/>
              <a:ext cx="220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rogram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1" name="Picture 18" descr="grecobud3"/>
          <p:cNvPicPr/>
          <p:nvPr/>
        </p:nvPicPr>
        <p:blipFill>
          <a:blip r:embed="rId10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9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948840" y="2708280"/>
            <a:ext cx="100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B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1809720" y="2998800"/>
            <a:ext cx="6072120" cy="14270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5" descr="grecobud3"/>
          <p:cNvPicPr/>
          <p:nvPr/>
        </p:nvPicPr>
        <p:blipFill>
          <a:blip r:embed="rId2"/>
          <a:stretch/>
        </p:blipFill>
        <p:spPr>
          <a:xfrm>
            <a:off x="4343400" y="464832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636" name="TextBox 3"/>
          <p:cNvSpPr/>
          <p:nvPr/>
        </p:nvSpPr>
        <p:spPr>
          <a:xfrm>
            <a:off x="3213000" y="2514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queries are welco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076960" cy="938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273800" cy="3394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partment of Biotechnology created in 198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oinformatics programme started ever si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orbel"/>
              </a:rPr>
              <a:t>Biotechnology Information System Network (BTISnet)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established in 198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TISnet today has 170 institutions and universit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mphasis on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nfrastructure Development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Human Resource Develop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&amp;D in Bioinformatic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s been added more rcentl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otechnology in India has greatly benefited from the capacity building in Bioinformat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4600" indent="-2581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dicated virtual private network connecting the major centres – sharing of data as well as computing resour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0520" y="2743200"/>
            <a:ext cx="7999560" cy="176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TISnet, INDIA is world’s biggest distributed grid in the field of biotechnology information, research and edu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609480" y="152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iotechnology Information System Network (BTISne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grecobud3"/>
          <p:cNvPicPr/>
          <p:nvPr/>
        </p:nvPicPr>
        <p:blipFill>
          <a:blip r:embed="rId1"/>
          <a:stretch/>
        </p:blipFill>
        <p:spPr>
          <a:xfrm>
            <a:off x="8305920" y="380880"/>
            <a:ext cx="68580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1026"/>
          <p:cNvGraphicFramePr/>
          <p:nvPr/>
        </p:nvGraphicFramePr>
        <p:xfrm>
          <a:off x="0" y="0"/>
          <a:ext cx="8686800" cy="651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0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868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Oval 1027"/>
          <p:cNvSpPr/>
          <p:nvPr/>
        </p:nvSpPr>
        <p:spPr>
          <a:xfrm>
            <a:off x="160200" y="1143000"/>
            <a:ext cx="722520" cy="68580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28"/>
          <p:cNvSpPr/>
          <p:nvPr/>
        </p:nvSpPr>
        <p:spPr>
          <a:xfrm>
            <a:off x="160200" y="1295280"/>
            <a:ext cx="8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29"/>
          <p:cNvSpPr/>
          <p:nvPr/>
        </p:nvSpPr>
        <p:spPr>
          <a:xfrm>
            <a:off x="160200" y="1968480"/>
            <a:ext cx="144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Bose Inst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IIS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J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MK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Wingdings 2"/>
                <a:ea typeface="Wingdings 2"/>
              </a:rPr>
              <a:t></a:t>
            </a:r>
            <a:r>
              <a:rPr b="0" lang="en-US" sz="1400" spc="-1" strike="noStrike">
                <a:solidFill>
                  <a:srgbClr val="66ff66"/>
                </a:solidFill>
                <a:latin typeface="Arial"/>
                <a:ea typeface="DotumChe"/>
              </a:rPr>
              <a:t>Uni. Of P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1031" descr="grecobud3"/>
          <p:cNvPicPr/>
          <p:nvPr/>
        </p:nvPicPr>
        <p:blipFill>
          <a:blip r:embed="rId3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32"/>
          <p:cNvSpPr/>
          <p:nvPr/>
        </p:nvSpPr>
        <p:spPr>
          <a:xfrm>
            <a:off x="4653000" y="6477120"/>
            <a:ext cx="560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027"/>
          <p:cNvSpPr/>
          <p:nvPr/>
        </p:nvSpPr>
        <p:spPr>
          <a:xfrm>
            <a:off x="6858000" y="933480"/>
            <a:ext cx="1447920" cy="647640"/>
          </a:xfrm>
          <a:prstGeom prst="ellipse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0866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7 B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14300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4d4d6"/>
                </a:solidFill>
                <a:latin typeface="Times New Roman"/>
              </a:rPr>
              <a:t>Bioinformatics Facilities in In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3" descr="biogrid"/>
          <p:cNvPicPr/>
          <p:nvPr/>
        </p:nvPicPr>
        <p:blipFill>
          <a:blip r:embed="rId1"/>
          <a:stretch/>
        </p:blipFill>
        <p:spPr>
          <a:xfrm>
            <a:off x="2666880" y="1447920"/>
            <a:ext cx="4535640" cy="5410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grecobud3"/>
          <p:cNvPicPr/>
          <p:nvPr/>
        </p:nvPicPr>
        <p:blipFill>
          <a:blip r:embed="rId2"/>
          <a:stretch/>
        </p:blipFill>
        <p:spPr>
          <a:xfrm>
            <a:off x="8893080" y="6515280"/>
            <a:ext cx="250920" cy="34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grecobud3"/>
          <p:cNvPicPr/>
          <p:nvPr/>
        </p:nvPicPr>
        <p:blipFill>
          <a:blip r:embed="rId3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828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Distributed Science Net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nsitization of life scientists for use of  Bioinformatics and Computational Biolog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iven the better infrastructure for networking and Resear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rovement of Quality of research in modern Biology/Life Scienc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utoShape 2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400960" cy="1444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rbel"/>
              </a:rPr>
              <a:t>Database/Software developers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king in  similar areas should follow the ‘</a:t>
            </a: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consortia approach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avoid duplication of effor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optimize the resources to maximize gai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establish the inter-operatability standa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velop integrated query systems that facilitates retrieval of heterogeneous data se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5" descr="grecobud3"/>
          <p:cNvPicPr/>
          <p:nvPr/>
        </p:nvPicPr>
        <p:blipFill>
          <a:blip r:embed="rId2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457200" y="3038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68bba"/>
                </a:solidFill>
                <a:uFillTx/>
                <a:latin typeface="AvantGarde"/>
              </a:rPr>
              <a:t>NATIONAL BIOCOMPUTATIONAL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533520" y="1905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Jawaharlal University, New Del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Bose Institute, Kol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Madurai Kamraj University, Madur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Indian Institute of Science, Bangal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Centre for Cellular and Molecular Biology, Hydera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University of Pune, P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68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0000"/>
                </a:solidFill>
                <a:latin typeface="Tahoma"/>
              </a:rPr>
              <a:t>Indian Institute of Technology, Del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grecobud3"/>
          <p:cNvPicPr/>
          <p:nvPr/>
        </p:nvPicPr>
        <p:blipFill>
          <a:blip r:embed="rId1"/>
          <a:stretch/>
        </p:blipFill>
        <p:spPr>
          <a:xfrm>
            <a:off x="8229600" y="304920"/>
            <a:ext cx="685800" cy="83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7:10:05Z</dcterms:created>
  <dc:creator>sunita</dc:creator>
  <dc:description/>
  <dc:language>en-US</dc:language>
  <cp:lastModifiedBy>Dr. Gulshan Wadhwa</cp:lastModifiedBy>
  <dcterms:modified xsi:type="dcterms:W3CDTF">2013-05-17T10:21:38Z</dcterms:modified>
  <cp:revision>166</cp:revision>
  <dc:subject/>
  <dc:title>PowerPoint Presentation</dc:title>
</cp:coreProperties>
</file>